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6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, in scenes of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new, new so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I have loved so 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unseen thing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glory,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and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I know' tis tru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satisfies my long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nothing else can 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wonderful it see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all the golden fanc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ll our golden drea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did so much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is just the rea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tell it now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pleasant to rep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eems, each time I tell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wonderfully swe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ome have never he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ssage of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God's own hol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ill be my theme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ell the old, ol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 and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love to tell the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ho know it b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m hungering and thirs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it like the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36:14Z</dcterms:created>
  <dc:creator>Gary Wintergerst</dc:creator>
  <dc:description/>
  <dc:language>en-US</dc:language>
  <cp:lastModifiedBy>Gary Wintergerst</cp:lastModifiedBy>
  <cp:lastPrinted>1995-07-10T20:22:26Z</cp:lastPrinted>
  <dcterms:modified xsi:type="dcterms:W3CDTF">2000-06-17T20:56:35Z</dcterms:modified>
  <cp:revision>6</cp:revision>
  <dc:subject/>
  <dc:title>No Slide Title</dc:title>
</cp:coreProperties>
</file>