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here! As we your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et to offer praise and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find in fuller m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is in Christ we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as in the world around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varied skills and 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 the coming of the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open minds and he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symbols to remi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our lifelong need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re table, font, and pulp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he cross has central pl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honesty of prea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n silence, as in spee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in newness and renew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Spirit comes to eac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our children find a welco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Shepherd's flock and f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as bread and wine are ta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sustains us, as of 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the servants of the Serv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in worship to expl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it means in daily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lieve and to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of church and kingd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n age of change and doub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us faithful to the gospe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work your purpose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, in this day's dedic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e have to give,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who cannot live withou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dore you! We believ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35:38Z</dcterms:created>
  <dc:creator>Gary Wintergerst</dc:creator>
  <dc:description/>
  <dc:language>en-US</dc:language>
  <cp:lastModifiedBy>Gary Wintergerst</cp:lastModifiedBy>
  <cp:lastPrinted>1995-12-27T02:11:06Z</cp:lastPrinted>
  <dcterms:modified xsi:type="dcterms:W3CDTF">1999-11-14T02:47:29Z</dcterms:modified>
  <cp:revision>5</cp:revision>
  <dc:subject/>
  <dc:title>No Slide Title</dc:title>
</cp:coreProperties>
</file>