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Ai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4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ong in the ai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tar in the sk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mother's deep pray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 baby's low cr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star rains its fi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the beautiful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manger of Bethlehe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adles a K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tumult of jo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'er the wonderful bi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virgin's sweet bo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the Lord of the ear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y! the star rains its fi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the beautiful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manger of Bethlehe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adles a K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light of that st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e the ages impearl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at song from af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 swept over the wor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hearth is afl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beautiful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homes of the natio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Jesus is K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rejoice in the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echo the s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comes down through the n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heavenly thro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y! we shout to the love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angel they b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greet in his crad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avior and K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3:13:30Z</dcterms:created>
  <dc:creator>Gary Wintergerst</dc:creator>
  <dc:description/>
  <dc:language>en-US</dc:language>
  <cp:lastModifiedBy>U</cp:lastModifiedBy>
  <cp:lastPrinted>1995-08-30T07:48:42Z</cp:lastPrinted>
  <dcterms:modified xsi:type="dcterms:W3CDTF">1997-07-24T04:55:32Z</dcterms:modified>
  <cp:revision>2</cp:revision>
  <dc:subject/>
  <dc:title>No Slide Title</dc:title>
</cp:coreProperties>
</file>