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irit of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ving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pirit of the living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light and fire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cend upon thy church once m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it truly thi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it with love and joy and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righteousness and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Christ shall dwell in human hear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 and sorrow cea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ow, wind of God! With wisdom bl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our minds are fr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mists of error, clouds of doub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blind our eyes to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rn, winged fire! Inspire our lip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flaming love and zea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reach to all thy great good new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glorious common-we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to utter living wor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ruth which all may h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nguage all may under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love speaks loud and cl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every age and race and cli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lend their creeds in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rth shall form one fami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om thy will is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l we know the power of Chri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came this world to s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shall we rise with him to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soars beyond the gra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arth shall win true holi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makes thy children whol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, perfected by thee, we reac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ion's glorious goa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18:42Z</dcterms:created>
  <dc:creator>Gary Wintergerst</dc:creator>
  <dc:description/>
  <dc:language>en-US</dc:language>
  <cp:lastModifiedBy>U</cp:lastModifiedBy>
  <cp:lastPrinted>1995-08-07T15:04:32Z</cp:lastPrinted>
  <dcterms:modified xsi:type="dcterms:W3CDTF">1997-07-24T16:39:22Z</dcterms:modified>
  <cp:revision>4</cp:revision>
  <dc:subject/>
  <dc:title>No Slide Title</dc:title>
</cp:coreProperties>
</file>