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body Know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Trouble I Se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2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body knows the trouble I s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body knows but Jesu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nobody knows the trouble I s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halleluja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etimes I'm up, sometimes I'm dow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yes, Lor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metimes I'm almost to the grou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yes, Lor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body knows the trouble I s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body knows but Jesu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nobody knows the trouble I s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halleluja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though you see me going long s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yes, Lor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have my troubles here bel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yes, Lor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body knows the trouble I s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body knows but Jesu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nobody knows the trouble I s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halleluja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makes old Satan hate me so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yes, Lor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use he got me once and let me g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yes, Lor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body knows the trouble I s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body knows but Jesu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h, nobody knows the trouble I s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halleluja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5T21:38:40Z</dcterms:created>
  <dc:creator>Gary Wintergerst</dc:creator>
  <dc:description/>
  <dc:language>en-US</dc:language>
  <cp:lastModifiedBy>U</cp:lastModifiedBy>
  <cp:lastPrinted>1995-08-07T15:04:32Z</cp:lastPrinted>
  <dcterms:modified xsi:type="dcterms:W3CDTF">1997-07-24T16:35:56Z</dcterms:modified>
  <cp:revision>3</cp:revision>
  <dc:subject/>
  <dc:title>No Slide Title</dc:title>
</cp:coreProperties>
</file>