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Let's Sing Unto the Lor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7; Sp/Eng:13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Resource Publ.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praised for grea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sing to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stows such lovely bless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egrí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ántico de am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glad rejoi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a hymn of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360" y="350532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acer el nuevo dí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izo el cielo,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ew day's fresh begin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 sky ab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1040" y="3505320"/>
            <a:ext cx="87505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ol y las estrellas y vióen ellos bonda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us obras eran bell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, the sun,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aw it was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7360" y="35812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508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abanz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xprese nuestro am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ows our love and fai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fe y nuestra esperan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toda la cre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at has been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gona su grande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nuestro can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praised for greatne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sing to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egrí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cántico de am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nacer el nuevo dí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Él hizo el cielo,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ol y las estrellas y vióen ellos bon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anunciando su bell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stows such lovely bless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es sus obras eran bell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himno de alabanz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xprese nuestro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estra fe y nuestra esperan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toda la creació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gona su grandez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í nuestro can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 anunciando su bellez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 ¡Alleluya! 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mos al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Alleluy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glad rejoic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a hymn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new day's fresh begin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ade the sky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ars, the sun, the ocea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saw it was g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orks were filled with beau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Let's sing unto the Lord.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's sing unto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hymn of ador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hows our love and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hope of all crea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at has been ma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48:10Z</dcterms:created>
  <dc:creator>Gary Wintergerst</dc:creator>
  <dc:description/>
  <dc:language>en-US</dc:language>
  <cp:lastModifiedBy>Gary Wintergerst</cp:lastModifiedBy>
  <cp:lastPrinted>1995-08-29T16:56:40Z</cp:lastPrinted>
  <dcterms:modified xsi:type="dcterms:W3CDTF">1999-11-08T02:45:17Z</dcterms:modified>
  <cp:revision>9</cp:revision>
  <dc:subject/>
  <dc:title>No Slide Title</dc:title>
</cp:coreProperties>
</file>