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Thou Long-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xpected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96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thou long-expected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to set thy people fr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our fears and sins releas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find our rest in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rael's strength and consol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of all the earth thou ar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r desire of every n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of every longing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thy people to deli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a child and yet a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to reign in us for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y gracious kingdom br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ine own eternal spiri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ule in all our hearts al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ine all sufficient me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ise us to thy glorious thr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6T14:01:46Z</dcterms:created>
  <dc:creator>Gary Wintergerst</dc:creator>
  <dc:description/>
  <dc:language>en-US</dc:language>
  <cp:lastModifiedBy>U</cp:lastModifiedBy>
  <cp:lastPrinted>1995-07-26T14:04:00Z</cp:lastPrinted>
  <dcterms:modified xsi:type="dcterms:W3CDTF">1997-07-24T01:28:20Z</dcterms:modified>
  <cp:revision>7</cp:revision>
  <dc:subject/>
  <dc:title>No Slide Title</dc:title>
</cp:coreProperties>
</file>