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diers of Christ, ari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ut your armor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in the strength which God suppli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his eternal S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ong in the Lord of Hos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n his mighty p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in the strength of Jesus trus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more than conquer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then in his great m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his strength endu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ake to arm you for the f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anoply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aving all thing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your conflicts pas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may o'ercome thru Christ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and entire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without ceasing,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your Captain gives the word)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summons cheerfully obe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all upon the Lor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your every wan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instant prayer disp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 always, pray and never fai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y, without ceasing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strength to strength go 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restle and fight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ead all the powers of darkness dow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n the well-fought d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let the Spirit c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his soldiers, "Com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Christ the Lord descends from hig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s the conquerors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32:50Z</dcterms:created>
  <dc:creator>Gary Wintergerst</dc:creator>
  <dc:description/>
  <dc:language>en-US</dc:language>
  <cp:lastModifiedBy>U</cp:lastModifiedBy>
  <cp:lastPrinted>1995-08-11T16:01:02Z</cp:lastPrinted>
  <dcterms:modified xsi:type="dcterms:W3CDTF">1997-07-24T16:34:54Z</dcterms:modified>
  <cp:revision>3</cp:revision>
  <dc:subject/>
  <dc:title>No Slide Title</dc:title>
</cp:coreProperties>
</file>