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in Roy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vid's Ci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in royal David's c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od a lowly cattle sh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a mother laid her bab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manger for his b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, loving mother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her little chi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ame down to earth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God and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helter was a st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cradle was a st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oor, the scorned, the low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d on earth our Savior ho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our childhood's patte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, like us he gr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s little, weak, and helpl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rs and smiles like us he kne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eyes at last shall se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his own redeeming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at child so dear and gent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Lord in heaven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eads his children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place where he is g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22:3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7:06Z</dcterms:modified>
  <cp:revision>2</cp:revision>
  <dc:subject/>
  <dc:title>No Slide Title</dc:title>
</cp:coreProperties>
</file>