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 the Prese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2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7 Lanny Wolfe Mus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 the presence of the Lord is in this pl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n feel his mighty power and his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an hear the brush of angel's wing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glory on each f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rely the presence of the Lord is in this pl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8T16:05:06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2T22:42:09Z</dcterms:modified>
  <cp:revision>3</cp:revision>
  <dc:subject/>
  <dc:title>No Slide Title</dc:title>
</cp:coreProperties>
</file>