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 Me No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entle Savio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5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 me not, O gentle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me at thy throne of merc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a sweet relief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kneeling there in deep contri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y unbelief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usting only in thy me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uld I seek thy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 my wounded, broken spir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me by thy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the spring of all my comf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than life to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have I on earth beside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in heaven but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 my humble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on others thou art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pass me b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44:24Z</dcterms:created>
  <dc:creator>Gary Wintergerst</dc:creator>
  <dc:description/>
  <dc:language>en-US</dc:language>
  <cp:lastModifiedBy>U</cp:lastModifiedBy>
  <cp:lastPrinted>1995-08-11T16:01:02Z</cp:lastPrinted>
  <dcterms:modified xsi:type="dcterms:W3CDTF">1997-07-24T14:29:08Z</dcterms:modified>
  <cp:revision>3</cp:revision>
  <dc:subject/>
  <dc:title>No Slide Title</dc:title>
</cp:coreProperties>
</file>