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ms of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 G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rdens now may crush 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appointments all arou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oubles speak in mournful s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through a tear-stained ey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world where pleasure reig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mourning soul shall roam its plai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at land of peace and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ant to go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ms of heaven as I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is wilderness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ide my feet in peaceful w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my midnights into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the darkness I would gr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lways sees a star of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on from all life's grief and dang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 fre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tentimes my sky is cl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abounds without a t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a day so bright beg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louds may hide tomorrow's s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'll be a day that's always br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day that never yields to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its light the streets of gl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hold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not know how long' twi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what the future holds for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is I know: if Jesus leads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get hom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der yet may be the f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may often yield to m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ckedness a while may reig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tan's cause may seem to g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a God that rule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and of power and heart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I am right, he'll fight my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have peace some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5:24:20Z</dcterms:created>
  <dc:creator>Gary Wintergerst</dc:creator>
  <dc:description/>
  <dc:language>en-US</dc:language>
  <cp:lastModifiedBy>U</cp:lastModifiedBy>
  <cp:lastPrinted>1995-08-07T15:04:32Z</cp:lastPrinted>
  <dcterms:modified xsi:type="dcterms:W3CDTF">1997-07-24T16:36:28Z</dcterms:modified>
  <cp:revision>3</cp:revision>
  <dc:subject/>
  <dc:title>No Slide Title</dc:title>
</cp:coreProperties>
</file>