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, Thou On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spised Jes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2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, thou once despised Jesus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, thou Galilean King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didst suffer to release 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didst free salvation br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, thou universal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hast borne our sin and sha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y merits we find favo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is given through thy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schal Lamb, by God appoint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sins on thee were lai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almighty love anoint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hast full atonement mad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 sin may be forgiv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the virtue of thy blo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ed is the gate of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conciled are we with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hail! enthroned in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forever to abid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heavenly hosts adore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ated at thy Father's sid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for sinners thou art plead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thou dost our place prepa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for saints art interced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in glory they appe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ship, honor, power, and bless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worthy to recei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udest praises, without cea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ight it is for us to gi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, ye bright angelic spirit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your sweetest, noblest lay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to sing of Jesus' merit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to chant Emmanuel's prais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4T16:36:10Z</dcterms:created>
  <dc:creator>Gary Wintergerst</dc:creator>
  <dc:description/>
  <dc:language>en-US</dc:language>
  <cp:lastModifiedBy>U</cp:lastModifiedBy>
  <cp:lastPrinted>1995-08-11T16:01:02Z</cp:lastPrinted>
  <dcterms:modified xsi:type="dcterms:W3CDTF">1997-07-24T14:25:26Z</dcterms:modified>
  <cp:revision>3</cp:revision>
  <dc:subject/>
  <dc:title>No Slide Title</dc:title>
</cp:coreProperties>
</file>