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ad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ce Was Crown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ad that once was crowned with thor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crowned with glory n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royal diadem ador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ighty victor's br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ighest place that heavens affor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ongs to him by r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kings and Lord of lor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ven's eternal l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oy of all who dwell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oy of all be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whom he manifests his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ants his name to know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m the cross with all its sh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ll its grace, is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name an everlasting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joy the joy of heav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uffer with their Lord be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reign with him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profit and their joy to kn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ystery of hi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ss he bore is life and heal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shame and death to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people's hope, his people's weal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ir everlasting the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8T15:59:16Z</dcterms:created>
  <dc:creator>Gary Wintergerst</dc:creator>
  <dc:description/>
  <dc:language>en-US</dc:language>
  <cp:lastModifiedBy>U</cp:lastModifiedBy>
  <cp:lastPrinted>1995-08-11T16:01:02Z</cp:lastPrinted>
  <dcterms:modified xsi:type="dcterms:W3CDTF">1997-07-24T14:25:32Z</dcterms:modified>
  <cp:revision>3</cp:revision>
  <dc:subject/>
  <dc:title>No Slide Title</dc:title>
</cp:coreProperties>
</file>