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l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aith Al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plead for faith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which by our works is sh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t is who justif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faith the grace appl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tive faith that lives with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quers hell and death and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s whom it first mad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ms the Savior in the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this faith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salvation is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lready i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or this faith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salvation is the 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lready i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life is w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4:05:02Z</dcterms:created>
  <dc:creator>Gary Wintergerst</dc:creator>
  <dc:description/>
  <dc:language>en-US</dc:language>
  <cp:lastModifiedBy>U</cp:lastModifiedBy>
  <cp:lastPrinted>1995-08-07T15:04:32Z</cp:lastPrinted>
  <dcterms:modified xsi:type="dcterms:W3CDTF">1997-07-24T14:33:24Z</dcterms:modified>
  <cp:revision>3</cp:revision>
  <dc:subject/>
  <dc:title>No Slide Title</dc:title>
</cp:coreProperties>
</file>