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, O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2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4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, O God, is broad like beach and mead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de as the wind, and our eternal hom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leave us free to seek you or reject you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give us room to answer "yes" or "no."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, O God, is broad like beach and mead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de as the wind, and our eternal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ong for freedom where our truest be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given hope and courage to unfol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seek in freedom space and scope for dream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ook for ground where trees and plants can gr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, O God, is broad like beach and mead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de as the wind, and our eternal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there are walls that keep us all divid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fence each other in with hate and w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ear is the bricks and mortar of our pri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pride of self, the prison coat we wea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, O God, is broad like beach and mead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de as the wind, and our eternal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judge us, Lord, and in your judgment fre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et our feet in freedom's open sp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ake us as far as your compassion wander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ong the children of the human 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love, O God, is broad like beach and mead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de as the wind, and our eternal hom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6:30:2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2:30:53Z</dcterms:modified>
  <cp:revision>4</cp:revision>
  <dc:subject/>
  <dc:title>No Slide Title</dc:title>
</cp:coreProperties>
</file>