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Wh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ped Cre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ercy and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goodness is revea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enderness you touc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oken hearts are heal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laim us as your childr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trip our prideful sh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reedom born of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less your holy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who shaped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earth's chaotic da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d of power was sp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! the dark was g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framed us in your im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rought us into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lessed our infant footstep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red your splendored ea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with pain and angu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other sees her chi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ark on dead-end path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uring, but defi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oo your heart is br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ate and lust incr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orlds you birthed and nurtu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urn ways that lead to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hough your heart is br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ople scorn your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never cease your searc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vil's darksome maz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we cease our ru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joys, O God, ab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joy of searching wom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reasured coin is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when trinkets tarn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leasures lose their cha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, wearied by our wande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your opened ar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otherlike com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hare your warm emb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et for us a banqu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l us through your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12:09:56Z</dcterms:created>
  <dc:creator>Gary Wintergerst</dc:creator>
  <dc:description/>
  <dc:language>en-US</dc:language>
  <cp:lastModifiedBy>Gary Wintergerst</cp:lastModifiedBy>
  <cp:lastPrinted>1996-01-03T12:45:56Z</cp:lastPrinted>
  <dcterms:modified xsi:type="dcterms:W3CDTF">1999-11-14T00:21:24Z</dcterms:modified>
  <cp:revision>5</cp:revision>
  <dc:subject/>
  <dc:title>No Slide Title</dc:title>
</cp:coreProperties>
</file>