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Lamb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3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0 The UM Publ. Hous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Lamb, the loving Lamb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of Calvary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amb that was sl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t lives ag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intercede for m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1T15:01:1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12T18:25:00Z</dcterms:modified>
  <cp:revision>3</cp:revision>
  <dc:subject/>
  <dc:title>No Slide Title</dc:title>
</cp:coreProperties>
</file>