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rife Is O'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attle D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0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trife is o'er, the battle don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ctory of life is w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ong of triumph has begu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owers of death have done their wor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Christ their legions hath dispers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shouts of holy joy outburs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three sad days are quickly sp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rises glorious from the dea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glory to our risen Hea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by the stripes which wounded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death's dread sting thy servants fr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 may live, and sing to the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2T21:46:54Z</dcterms:created>
  <dc:creator>Gary Wintergerst</dc:creator>
  <dc:description/>
  <dc:language>en-US</dc:language>
  <cp:lastModifiedBy>U</cp:lastModifiedBy>
  <cp:lastPrinted>1995-08-11T16:01:02Z</cp:lastPrinted>
  <dcterms:modified xsi:type="dcterms:W3CDTF">1997-07-24T14:22:44Z</dcterms:modified>
  <cp:revision>2</cp:revision>
  <dc:subject/>
  <dc:title>No Slide Title</dc:title>
</cp:coreProperties>
</file>