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Holy Jesus 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h, holy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hast thou offen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e to judge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ve in hate pretended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foes deri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ine own reject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ost afflict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 the guilt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rought this upon the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as, my trea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hath undone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'Twas I, Lor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it was denied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crucified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, the Good Shephe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sheep is offer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lave hath sinn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Son hath suffer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atoneme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nothing heed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terced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e, kin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s thy incarn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mortal s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life's oblat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death of anguis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bitter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y salvati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fore, kind Jes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ce I cannot p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do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ill ever pray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k on thy pi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y love unswer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my deserv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8:2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2:54Z</dcterms:modified>
  <cp:revision>2</cp:revision>
  <dc:subject/>
  <dc:title>No Slide Title</dc:title>
</cp:coreProperties>
</file>