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Pe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imly Shi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ay of peace that dimly shin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hopes and prayers and dream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us to justice, truth, and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livered from our selfish schem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words of hate fall from our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from envy find rel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by God's grace our warring world shall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's promised reign of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hall the wolf dwell with the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shall the fierce devour the sm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beasts and cattle calmly gra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ittle child shall lead them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enemies shall learn to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ures find their true acc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pe of peace shall be fulfil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earth shall know the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32:56Z</dcterms:created>
  <dc:creator>Gary Wintergerst</dc:creator>
  <dc:description/>
  <dc:language>en-US</dc:language>
  <cp:lastModifiedBy>Gary Wintergerst</cp:lastModifiedBy>
  <cp:lastPrinted>1996-01-02T15:06:06Z</cp:lastPrinted>
  <dcterms:modified xsi:type="dcterms:W3CDTF">1999-11-14T03:05:06Z</dcterms:modified>
  <cp:revision>5</cp:revision>
  <dc:subject/>
  <dc:title>No Slide Title</dc:title>
</cp:coreProperties>
</file>