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oes I cry to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ends of earth wherever I may b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trength in helpless-ness, O answer 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y tent give me a dwelling pl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eneath thy wings may I find sheltering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ift on me the sunshine of thy fac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I my vows to thee may p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at by thy faithfulness to me each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live, and on thy love my burdens la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Savior, Lord, lo, to thee I fly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Rock, my refuge that's higher than I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sterday, today, fore'er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the heritage of all who bear th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ransom them from sin the Savior cam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ranam, Saranam, Sarana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6T15:15:48Z</dcterms:created>
  <dc:creator>Gary Wintergerst</dc:creator>
  <dc:description/>
  <dc:language>en-US</dc:language>
  <cp:lastModifiedBy>U</cp:lastModifiedBy>
  <cp:lastPrinted>1995-08-07T15:04:32Z</cp:lastPrinted>
  <dcterms:modified xsi:type="dcterms:W3CDTF">1997-07-24T16:36:20Z</dcterms:modified>
  <cp:revision>3</cp:revision>
  <dc:subject/>
  <dc:title>No Slide Title</dc:title>
</cp:coreProperties>
</file>