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a Princi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a principle with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watchful, godly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ensibility of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ain to feel it n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he first approach to fe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pride or wrong des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atch the wandering of my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quench the kindling fi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e that I no more may st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thy goodness grie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me the filial awe, I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ender conscience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ck as the apple of an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, my conscience m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ke my soul when sin is n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 it still aw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mighty God of truth and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 thy power im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untain from my soul re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ardness from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the least omission p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eawakened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rive me to that blood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makes the wounded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1:07:24Z</dcterms:created>
  <dc:creator>Gary Wintergerst</dc:creator>
  <dc:description/>
  <dc:language>en-US</dc:language>
  <cp:lastModifiedBy>U</cp:lastModifiedBy>
  <cp:lastPrinted>1996-01-02T16:38:34Z</cp:lastPrinted>
  <dcterms:modified xsi:type="dcterms:W3CDTF">1997-07-24T15:48:54Z</dcterms:modified>
  <cp:revision>3</cp:revision>
  <dc:subject/>
  <dc:title>No Slide Title</dc:title>
</cp:coreProperties>
</file>