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ve That Wil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Let Me G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8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ve that wilt not let me g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rest my weary soul in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give thee back the life I ow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n thine ocean depths its fl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richer, fuller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ight that followest all my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yield my flickering torch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 restores its borrowed 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n thy sunshine's blaze its 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brighter, fairer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oy that seekest me through p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annot close my heart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trace the rainbow thru the r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eel the promise is not v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morn shall tearless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ross that liftest up my h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dare not ask to fly from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ay in dust life's glory d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the ground there blossoms r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that shall endless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3T20:48:30Z</dcterms:created>
  <dc:creator>Gary Wintergerst</dc:creator>
  <dc:description/>
  <dc:language>en-US</dc:language>
  <cp:lastModifiedBy>U</cp:lastModifiedBy>
  <cp:lastPrinted>1995-08-11T16:01:02Z</cp:lastPrinted>
  <dcterms:modified xsi:type="dcterms:W3CDTF">1997-07-24T16:03:08Z</dcterms:modified>
  <cp:revision>3</cp:revision>
  <dc:subject/>
  <dc:title>No Slide Title</dc:title>
</cp:coreProperties>
</file>