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Soul'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re Des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soul's sincere des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uttered or expr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tion of a hidden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rembles in the bre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burden of a s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lling of a t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pward glancing of an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none but God is n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simplest form of spee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fant lips can t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the sublimest strains that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jesty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contrite sinners'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turning from their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angels in their songs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, "Behold, they pray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is the Christians' vital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ristians' native 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watchword at the gates of d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enter heaven with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, by whom we come t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fe, the Truth, the W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th of prayer thyself hast tr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each us how to pr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2:26Z</dcterms:created>
  <dc:creator>Gary Wintergerst</dc:creator>
  <dc:description/>
  <dc:language>en-US</dc:language>
  <cp:lastModifiedBy>U</cp:lastModifiedBy>
  <cp:lastPrinted>1995-08-07T15:04:32Z</cp:lastPrinted>
  <dcterms:modified xsi:type="dcterms:W3CDTF">1997-07-24T16:07:16Z</dcterms:modified>
  <cp:revision>3</cp:revision>
  <dc:subject/>
  <dc:title>No Slide Title</dc:title>
</cp:coreProperties>
</file>