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Pob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When the Poor One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Eng:11; Sp/Eng: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Ediciones Pau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7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poor ones who have nothing share with strang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thirsty water give unto us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rippled in their weakness strengthen oth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t last all those who suffer find their comf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y hope though even hope seems hopeless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ove though hate at times seems all ar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joy fills up our cup to overflo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lips can speak no words other than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know that love for simple things is be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homes are filled with goodness in abund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earn how to make peace instead of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each stranger that we meet is called a neighb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pobre nada tiene y aun repa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hombre pasa sed y agua nos 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débil a su hermano fortale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pobre nada tiene y aun repa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hombre pasa sed y agua nos 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When the poor ones who have nothing share with strangers,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thirsty water give unto us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l débil a su hermano fortale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rippled in their weakness strengthen oth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sufre un hombre y logra su consuel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spera y no se cansa de esper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t last all those who suffer find their comf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when they hope though even hope seems hopelessness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mamos, aunque el odio nos rod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ove though hate at times seems all around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crece la alegria y nos inun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dicen nuestros labios la ver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joy fills up our cup to overflow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lips can speak no words other than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mamos el sentir de los sencill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know that love for simple things is bett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bunda el bien y llena los hog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homes are filled with goodness in abund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un hombre donde hay guerra pone paz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"hermano" le llamamos al extrano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learn how to make peace instead of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each stranger that we meet is called a neighb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we know that God still goes that road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sufre un hombre y logra su consuel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espera y no se cansa de esper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mamos, aunque el odio nos rod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crece la alegria y nos inun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dicen nuestros labios la ver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mamos el sentir de los sencill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abunda el bien y llena los hog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un hombre donde hay guerra pone pa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ando "hermano" le llamamos al extran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Dios mismo en nuestro mismo camin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5:38:2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14:56Z</dcterms:modified>
  <cp:revision>5</cp:revision>
  <dc:subject/>
  <dc:title>No Slide Title</dc:title>
</cp:coreProperties>
</file>