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In Heav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1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in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to thy childr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rcy and bl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gs never cea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o unite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ce to redeem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God in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ar Lord, our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Redeem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we rememb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racious pas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resurrectio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ship we bring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we shall sing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Redeem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sus, our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desc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se is the bles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rength for the wea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for the need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aled in our kinshi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be our worshi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descend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ador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5:59:06Z</dcterms:created>
  <dc:creator>Gary Wintergerst</dc:creator>
  <dc:description/>
  <dc:language>en-US</dc:language>
  <cp:lastModifiedBy>U</cp:lastModifiedBy>
  <cp:lastPrinted>1995-08-11T16:01:02Z</cp:lastPrinted>
  <dcterms:modified xsi:type="dcterms:W3CDTF">1997-07-22T20:27:30Z</dcterms:modified>
  <cp:revision>2</cp:revision>
  <dc:subject/>
  <dc:title>No Slide Title</dc:title>
</cp:coreProperties>
</file>