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, Make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Discipl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7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Leon M. Adki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4 Abingdon Pr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Go, make of all disciples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ear the call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comes from thee, our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y eternal W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spire our ways of learn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earnest, fervent pray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our daily liv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veal thee everyw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Go, make of all disciples,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ptizing in the na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Father, Son, and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age to age the s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all each new discip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ollow thee, O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deeming soul and bod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water and the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Go, make of all disciples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t thy feet would st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each life's voc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ccents thy holy w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ultivate the natu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plants in every he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vealing in our wit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aster teacher's 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Go, make of all disciples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elcome thy comma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Lo, I am with you always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take thy guiding ha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ask looms large before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follow without f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eaven and earth thy pow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bring God's kingdom 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16:26:1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2002-06-19T02:57:44Z</dcterms:modified>
  <cp:revision>5</cp:revision>
  <dc:subject/>
  <dc:title>No Slide Title</dc:title>
</cp:coreProperties>
</file>