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be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loved he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he gave us hi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yielded his lif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 atonement for s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opened the life-gat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all may go i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perfect redempt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urchase of blo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every beli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promise of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vilest offend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truly believ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moment from Jes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pardon receiv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earth hear his v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, prais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e people rejoic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com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ive him the glor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taught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eat things he hath d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at our rejoic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u Jesus the So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purer, and hig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reater will b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wonder, our transpor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Jesus we s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2:00:38Z</dcterms:created>
  <dc:creator>Gary Wintergerst</dc:creator>
  <dc:description/>
  <dc:language>en-US</dc:language>
  <cp:lastModifiedBy>U</cp:lastModifiedBy>
  <dcterms:modified xsi:type="dcterms:W3CDTF">1997-07-22T18:33:42Z</dcterms:modified>
  <cp:revision>3</cp:revision>
  <dc:subject/>
  <dc:title>No Slide Title</dc:title>
</cp:coreProperties>
</file>