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 Day Tha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s Him Ri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1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il the day that sees him rise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his throne above the skies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awhile to mortals given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ascends his native heaven,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the glorious triumph waits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your heads, eternal gates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hath conquered death and sin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the King of glory in,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! the heaven its Lord receives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he loves the earth he leaves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returning to his throne,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ill he calls the world his own,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! he lifts his hands above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! he shows the prints of love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rk! his gracious lips bestow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ings on his church below,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3T07:52:26Z</dcterms:created>
  <dc:creator>Gary Wintergerst</dc:creator>
  <dc:description/>
  <dc:language>en-US</dc:language>
  <cp:lastModifiedBy>U</cp:lastModifiedBy>
  <cp:lastPrinted>1995-08-11T16:01:02Z</cp:lastPrinted>
  <dcterms:modified xsi:type="dcterms:W3CDTF">1997-07-24T14:23:58Z</dcterms:modified>
  <cp:revision>3</cp:revision>
  <dc:subject/>
  <dc:title>No Slide Title</dc:title>
</cp:coreProperties>
</file>