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We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d on Hig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we have heard on h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ly singing o'er the pl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mountains in rep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choing their joyous strai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pherds, why this jubil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your joyous strains prolo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 gladsome tidings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inspire your heavenly so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Bethlehem and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hose birth the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adore on bended kn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, the newborn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m in a manger l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the choirs of angels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y, Joseph, lend your ai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ur hearts in love we 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xcelsis De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2:00:12Z</dcterms:created>
  <dc:creator>Gary Wintergerst</dc:creator>
  <dc:description/>
  <dc:language>en-US</dc:language>
  <cp:lastModifiedBy>U</cp:lastModifiedBy>
  <cp:lastPrinted>1996-02-12T15:31:24Z</cp:lastPrinted>
  <dcterms:modified xsi:type="dcterms:W3CDTF">1997-07-24T04:53:18Z</dcterms:modified>
  <cp:revision>3</cp:revision>
  <dc:subject/>
  <dc:title>No Slide Title</dc:title>
</cp:coreProperties>
</file>