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3341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Gift Can We Br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8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2 Hope Publ.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gift can we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present, what token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words can convey i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joy of this day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rateful we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, rejoi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at song can we offer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nor and praise?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for the pa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ose who had vis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planted and water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dreams could come tru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for the now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study, for worship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mission that bid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rn prayer into de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ive thanks for tomorrow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ull of surpris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knowing whatev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morrow may b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Word is our promis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ways, foreve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rest in God's keep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ive in God's lov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274680" bIns="274680" anchor="t">
            <a:norm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gift we now bring, this present, this tok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se words can convey it, the joy of this da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grateful we co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membering, rejoic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is song we now offer in honor and prais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6T14:24:04Z</dcterms:created>
  <dc:creator>Gary Wintergerst</dc:creator>
  <dc:description/>
  <dc:language>en-US</dc:language>
  <cp:lastModifiedBy>Gary Wintergerst</cp:lastModifiedBy>
  <dcterms:modified xsi:type="dcterms:W3CDTF">1999-11-08T02:08:34Z</dcterms:modified>
  <cp:revision>9</cp:revision>
  <dc:subject/>
  <dc:title>No Slide Title</dc:title>
</cp:coreProperties>
</file>