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Overco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3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over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over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overcome some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deep in my heart I do belie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overcome some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walk hand in h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walk hand in hand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walk hand in hand some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deep in my heart I do belie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walk hand in hand some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all be fr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all be fr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all be free some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deep in my heart I do belie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all be free some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live in pe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live in peac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live in peace some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deep in my heart I do belie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all live in peace some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will see us throug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will see us through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will see us through some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deep in my heart I do belie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 will see us through some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15:09:14Z</dcterms:created>
  <dc:creator>Gary Wintergerst</dc:creator>
  <dc:description/>
  <dc:language>en-US</dc:language>
  <cp:lastModifiedBy>U</cp:lastModifiedBy>
  <cp:lastPrinted>1995-08-07T15:04:32Z</cp:lastPrinted>
  <dcterms:modified xsi:type="dcterms:W3CDTF">1997-07-24T16:38:01Z</dcterms:modified>
  <cp:revision>3</cp:revision>
  <dc:subject/>
  <dc:title>No Slide Title</dc:title>
</cp:coreProperties>
</file>