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122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2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2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ou Ar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2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2240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7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86832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8683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1981 Manna Music, In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2240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ings my soul, my Savior God to th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thou art,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ings my soul, my Savior God to th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thou art,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 Lord my God! when I in awesome wond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nsider all the worlds thy hands have mad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 see the stars, I hear the rolling thund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power throughout the universe displaye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ings my soul, my Savior God to th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thou art,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ings my soul, my Savior God to th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thou art,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through the woods and forest glades I wander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r the birds sing sweetly in the trees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 look down from lofty mountain grandeu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hear the brook, and feel the gentle breez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ings my soul, my Savior God to th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thou art,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ings my soul, my Savior God to th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thou art,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when I think that God, his son not spa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nt him to die, I scarce can take it 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at on the cross, my burden gladly bear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e bled and died to take away my sin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ings my soul, my Savior God to th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thou art,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sings my soul, my Savior God to thee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great thou art,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8000"/>
          </a:bodyPr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Christ shall come with shout of acclamat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ake me home, what joy shall fill my hear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I shall bow in humble adoration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96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ere proclaim, my God how great thou art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21T22:02:50Z</dcterms:created>
  <dc:creator>Gary Wintergerst</dc:creator>
  <dc:description/>
  <dc:language>en-US</dc:language>
  <cp:lastModifiedBy>Gary Wintergerst</cp:lastModifiedBy>
  <dcterms:modified xsi:type="dcterms:W3CDTF">1999-11-08T01:58:52Z</dcterms:modified>
  <cp:revision>5</cp:revision>
  <dc:subject/>
  <dc:title>No Slide Title</dc:title>
</cp:coreProperties>
</file>