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Friend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In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friend we have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sins and griefs to be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a privilege to car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thing to God in 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peace we often forfe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what needless pain we b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because we do not car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thing to God in 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we trials and temptation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there trouble anywhe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hould never be discourag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it to the Lord in  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 we find a friend so faithfu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ill all our sorrows sha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knows our every weak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it to the Lord in   pray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we weak and heavy la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umbered with a load of car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ecious Savior, still our refug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it to the Lord in   pray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thy friends despise, forsake th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it to the Lord in praye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his arms he'll take and shiel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ilt find a solace  the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41:24Z</dcterms:created>
  <dc:creator>Gary Wintergerst</dc:creator>
  <dc:description/>
  <dc:language>en-US</dc:language>
  <cp:lastModifiedBy>U</cp:lastModifiedBy>
  <cp:lastPrinted>1995-08-11T16:01:02Z</cp:lastPrinted>
  <dcterms:modified xsi:type="dcterms:W3CDTF">1997-07-24T16:36:52Z</dcterms:modified>
  <cp:revision>3</cp:revision>
  <dc:subject/>
  <dc:title>No Slide Title</dc:title>
</cp:coreProperties>
</file>