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33 The Rodeheaver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rve a risen Savio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in the world tod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at he is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ever foes may sa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his hand of merc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hear his voice of che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just the time I need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's always n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the world around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his loving ca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gh my heart grows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never will desp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know that he is lea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the stormy bla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day of his appea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ll come at la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impar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ask me how I know he lives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 within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joice, rejoice, O Christi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p your voice an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 hallelujah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Jesus Christ the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ope of all who seek 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lp of all who fi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ne other is so lo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good and ki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lives, he li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 lives toda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walks with me and talks with 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ong life's narrow 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02T11:06:34Z</dcterms:created>
  <dc:creator>Gary Wintergerst</dc:creator>
  <dc:description/>
  <dc:language>en-US</dc:language>
  <cp:lastModifiedBy>Gary Wintergerst</cp:lastModifiedBy>
  <cp:lastPrinted>1995-07-30T22:04:06Z</cp:lastPrinted>
  <dcterms:modified xsi:type="dcterms:W3CDTF">1999-11-12T22:35:42Z</dcterms:modified>
  <cp:revision>4</cp:revision>
  <dc:subject/>
  <dc:title>No Slide Title</dc:title>
</cp:coreProperties>
</file>