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Giv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Commiss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Jeffery Rawthorn, 1978 </a:t>
            </a:r>
            <a:br>
              <a:rPr sz="3200"/>
            </a:b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(Lk. 9:2; Mt. 28:19-20; Lk. 23:34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1978 Hope Publishing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bless with words assur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am with you to the end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nd hope and love rest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serve as you int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, amid the cares that claim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d in mind etern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give the great commissio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Heal the sick and preach the word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the church neglect its mi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gospel go unhe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witness to your purpo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renewed integr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call us to your servi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n my name baptize and teach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world may trust your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abundant meant for ea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all new fervor, draw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ser in commun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make the common ho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is my body, this my blood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all, for earth's tru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ily lift life heaven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king that the world aroun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re your children's liber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show us love's true measu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Father, what they do, forgiv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we hoard as private treas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you so freely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care and mercy lea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 just socie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Spirit's gifts empower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of minist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9:07:4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2003-06-28T16:28:47Z</dcterms:modified>
  <cp:revision>6</cp:revision>
  <dc:subject/>
  <dc:title>No Slide Title</dc:title>
</cp:coreProperties>
</file>