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 to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om to you now, shalom, my frien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God's full mercies bless you, my frien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your living and through your lo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be your shalom, Christ be your shalo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9:01:2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2:51:21Z</dcterms:modified>
  <cp:revision>3</cp:revision>
  <dc:subject/>
  <dc:title>No Slide Title</dc:title>
</cp:coreProperties>
</file>