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On, 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 Eterna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8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on, O King etern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y of march has c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nceforth in fields of conque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tents shall be our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days of prepar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grace has made us str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w, O King etern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ift our battle s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on, O King etern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sin's fierce war shall c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oliness shall whisp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weet amen of pe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not with swords loud clash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roll of stirring drum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deeds of love and merc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eavenly kingdom com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on, O King etern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ollow, not with fea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gladness breaks like mor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'er thy face appear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cross is lifted o'er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journey in its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rown awaits the conqu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on, O God of m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20:08:02Z</dcterms:created>
  <dc:creator>Gary Wintergerst</dc:creator>
  <dc:description/>
  <dc:language>en-US</dc:language>
  <cp:lastModifiedBy>U</cp:lastModifiedBy>
  <cp:lastPrinted>1995-08-11T16:01:02Z</cp:lastPrinted>
  <dcterms:modified xsi:type="dcterms:W3CDTF">1997-07-24T16:54:18Z</dcterms:modified>
  <cp:revision>3</cp:revision>
  <dc:subject/>
  <dc:title>No Slide Title</dc:title>
</cp:coreProperties>
</file>