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Ye What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g I Know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ye what great thing I k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lights and stirs me so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 high reward I w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the name I glory i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efeats my fiercest fo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onsoles my saddest wo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revives my fainting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all its hidden smar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s life in life to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eath of death will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place me on his 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ountless hosts of ligh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that great thing I k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delights and stirs me s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n him who died to s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triumphed o'er the grav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hrist, the crucif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9:26Z</dcterms:created>
  <dc:creator>Gary Wintergerst</dc:creator>
  <dc:description/>
  <dc:language>en-US</dc:language>
  <cp:lastModifiedBy>U</cp:lastModifiedBy>
  <cp:lastPrinted>1995-08-11T16:01:02Z</cp:lastPrinted>
  <dcterms:modified xsi:type="dcterms:W3CDTF">1997-07-24T01:13:18Z</dcterms:modified>
  <cp:revision>3</cp:revision>
  <dc:subject/>
  <dc:title>No Slide Title</dc:title>
</cp:coreProperties>
</file>