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ross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ded Ways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ross the crowded ways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sound the cries of race and cl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noise of selfish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your voice, O Son of m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aunts of wretchedness and n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shadowed thresholds dark with f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paths where hide the lures of gr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tch the vision of your tea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ender childhood's helpless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oman's grief, man's burdened to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famished souls, from sorrow's 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eart has never known recoi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up of water given for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olds the freshness of your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long these multitudes to vie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weet compassion of your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ster, from the mountains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haste to heal these hearts of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ng these restless throngs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read the city's streets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the world shall learn your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llow where your feet have t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glorious from your heaven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come the city of our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2:02:54Z</dcterms:created>
  <dc:creator>Gary Wintergerst</dc:creator>
  <dc:description/>
  <dc:language>en-US</dc:language>
  <cp:lastModifiedBy>U</cp:lastModifiedBy>
  <cp:lastPrinted>1995-08-07T15:04:32Z</cp:lastPrinted>
  <dcterms:modified xsi:type="dcterms:W3CDTF">1997-07-24T15:52:30Z</dcterms:modified>
  <cp:revision>4</cp:revision>
  <dc:subject/>
  <dc:title>No Slide Title</dc:title>
</cp:coreProperties>
</file>