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95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 of Christ I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ering o'er the wrecks of ti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light of sacre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s round its head subl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woes of life o'ertake 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pes deceive, and fears anno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ever shall the cross forsake 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it glows with peace and jo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e sun of bliss is bea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ght and love upon my w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the cross the radian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am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dds more luster to the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ne and blessing, pain and pl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cross are sanctifi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there that knows no meas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s that through all time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cross of Christ I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wering o'er the wrecks of ti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light of sacred sto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s round its head subli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45:42Z</dcterms:created>
  <dc:creator>Gary Wintergerst</dc:creator>
  <dc:description/>
  <dc:language>en-US</dc:language>
  <cp:lastModifiedBy>U</cp:lastModifiedBy>
  <cp:lastPrinted>1995-07-27T21:44:10Z</cp:lastPrinted>
  <dcterms:modified xsi:type="dcterms:W3CDTF">1997-07-24T05:03:40Z</dcterms:modified>
  <cp:revision>3</cp:revision>
  <dc:subject/>
  <dc:title>No Slide Title</dc:title>
</cp:coreProperties>
</file>