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ld Rugged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5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a hill far away stood an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mblem of suffering and sh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love that old cross where the dearest and bes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 world of lost sinners was sl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old rugged cross, so despised by the wor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a wondrous attraction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dear Lamb of God left his glory ab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ear it to dark Calva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at old rugged cross, stained with blood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wondrous beauty I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' twas on that old cross Jesus suffered and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pardon and sanctify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'll cherish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trophies at last I lay d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will cling to the old rugged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xchange it some day for a cr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old rugged cross I will ever be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s shame and reproach gladly b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he'll call me some day to my home far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is glory forever I'll sh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4T13:28:02Z</dcterms:created>
  <dc:creator>Gary Wintergerst</dc:creator>
  <dc:description/>
  <dc:language>en-US</dc:language>
  <cp:lastModifiedBy>U</cp:lastModifiedBy>
  <cp:lastPrinted>1995-08-11T16:01:02Z</cp:lastPrinted>
  <dcterms:modified xsi:type="dcterms:W3CDTF">1997-07-24T16:33:12Z</dcterms:modified>
  <cp:revision>3</cp:revision>
  <dc:subject/>
  <dc:title>No Slide Title</dc:title>
</cp:coreProperties>
</file>