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My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Truth, My Li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6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my Way, my Truth, my Lif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way as gives us br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truth as ends all str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life as killeth d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my Light, my Feast, my Strengt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light as shows a f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feast as mends in leng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strength as makes his gu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my Joy, my Love, my Hear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joy as none can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love as none can 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ch a heart as joys in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9:12:40Z</dcterms:created>
  <dc:creator>Gary Wintergerst</dc:creator>
  <dc:description/>
  <dc:language>en-US</dc:language>
  <cp:lastModifiedBy>U</cp:lastModifiedBy>
  <cp:lastPrinted>1995-08-11T16:01:02Z</cp:lastPrinted>
  <dcterms:modified xsi:type="dcterms:W3CDTF">1997-07-24T01:13:24Z</dcterms:modified>
  <cp:revision>3</cp:revision>
  <dc:subject/>
  <dc:title>No Slide Title</dc:title>
</cp:coreProperties>
</file>