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38 Hill &amp; Range Songs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Lord, take my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on, let me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ired, I am weak, I am wo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storm, through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on to the l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, precious Lord, lead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way grows dr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Lord, linger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life is almost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cry, hear my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my hand lest I fal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, precious Lord, lead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darkness app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night draws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day is past and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river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, hold my ha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my hand, precious Lord, lead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45:1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0:28:07Z</dcterms:modified>
  <cp:revision>4</cp:revision>
  <dc:subject/>
  <dc:title>No Slide Title</dc:title>
</cp:coreProperties>
</file>