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ftly and Tender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Call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4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ftly and tenderly Jesus is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ing for you and fo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, on the portals he's waiting and watch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ing for you and for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home, co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weary, co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nestly, tenderly, Jesus is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ing, O sinner, come h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should we tarry when Jesus is plea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leading for you and for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y should we linger and heed not his merc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rcies for you and for   m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home, co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weary, co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nestly, tenderly, Jesus is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ing, O sinner, come h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me is now fleeting, the moments are pa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sing from you and from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dows are gathering, deathbeds are com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ing for you and for   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home, co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weary, co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nestly, tenderly, Jesus is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ing, O sinner, come h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or the wonderful love he has promis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mised for you and for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we have sinned, he has mercy and pard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don for you and for    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home, co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ho are weary, come ho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nestly, tenderly, Jesus is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ing, O sinner, come ho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4:33:26Z</dcterms:created>
  <dc:creator>Gary Wintergerst</dc:creator>
  <dc:description/>
  <dc:language>en-US</dc:language>
  <cp:lastModifiedBy>U</cp:lastModifiedBy>
  <cp:lastPrinted>1995-08-02T14:30:30Z</cp:lastPrinted>
  <dcterms:modified xsi:type="dcterms:W3CDTF">1997-07-24T14:28:26Z</dcterms:modified>
  <cp:revision>3</cp:revision>
  <dc:subject/>
  <dc:title>No Slide Title</dc:title>
</cp:coreProperties>
</file>