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 Day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Beginn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cluding v.5 for Holy Commun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7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 day of new beginn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to remember and move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to believe what love is bri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ing to rest the pain that's g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by the life and death of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mighty Spirit, now as th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make for us a world of differ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aith and hope are born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, with the Spirit's d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p from the past and leave beh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disappointment, guilt, and grie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ing new paths, and sure to f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alive, and goes before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ow and share what love can 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 day of new beginning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is making all things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faith we'll gather around the t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aste and share what love can 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 day of new beginning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is making all things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0:55:56Z</dcterms:created>
  <dc:creator>Gary Wintergerst</dc:creator>
  <dc:description/>
  <dc:language>en-US</dc:language>
  <cp:lastModifiedBy>Gary Wintergerst</cp:lastModifiedBy>
  <cp:lastPrinted>1995-08-06T20:59:20Z</cp:lastPrinted>
  <dcterms:modified xsi:type="dcterms:W3CDTF">1999-11-12T22:58:25Z</dcterms:modified>
  <cp:revision>4</cp:revision>
  <dc:subject/>
  <dc:title>No Slide Title</dc:title>
</cp:coreProperties>
</file>