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uls Inspi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Ghost, our souls inspi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ghten with celestial fi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anointing Spirit 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ost thy sevenfold gifts im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blessed unction from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comfort, life, and fire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able with perpetual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ullness of our blinded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oint and cheer our soiled f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abundance of thy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 far our foes; give peace at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ou art guide, no ill can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to know the Father,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e, of both, to be but 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rough the ages all al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, this may be our endless so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o thy eternal me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Son, and Holy Spir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13:20Z</dcterms:created>
  <dc:creator>Gary Wintergerst</dc:creator>
  <dc:description/>
  <dc:language>en-US</dc:language>
  <cp:lastModifiedBy>U</cp:lastModifiedBy>
  <cp:lastPrinted>1995-12-27T02:05:20Z</cp:lastPrinted>
  <dcterms:modified xsi:type="dcterms:W3CDTF">1997-07-24T17:30:10Z</dcterms:modified>
  <cp:revision>5</cp:revision>
  <dc:subject/>
  <dc:title>No Slide Title</dc:title>
</cp:coreProperties>
</file>