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For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ld We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for the world w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to Christ we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loving zea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or, and them that mou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int and overbor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sick and sorrow-wor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Christ doth he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for the world w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to Christ we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ervent pray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ayward and the l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restless passions to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ed at countless c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ark despa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for the world w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to Christ we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one acc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us the work to sh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us reproach to d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us the cross to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Christ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for the world w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ld to Christ we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joyful so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newborn souls, whose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laimed from error's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spired with hope and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Christ belo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21:54Z</dcterms:created>
  <dc:creator>Gary Wintergerst</dc:creator>
  <dc:description/>
  <dc:language>en-US</dc:language>
  <cp:lastModifiedBy>U</cp:lastModifiedBy>
  <cp:lastPrinted>1995-08-11T16:01:02Z</cp:lastPrinted>
  <dcterms:modified xsi:type="dcterms:W3CDTF">1997-07-24T16:47:08Z</dcterms:modified>
  <cp:revision>3</cp:revision>
  <dc:subject/>
  <dc:title>No Slide Title</dc:title>
</cp:coreProperties>
</file>