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the Su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oth Daily Ris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7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the sun doth daily ri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ghtening all the morning ski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to thee with one accor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t we up our hearts, O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y by day provide us fo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from thee come all things goo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rength unto our souls affor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thy living bread, O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our guard in sin and strif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the leader of our lif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st from thee we stray abroa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y our wayward feet, O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Quickened by the Spirit's gra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y holy will to tra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we daily search thy W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sdom true impart, O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we, with the heavenly ho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ther, Son, and Holy Ghos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e would we with one accor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and magnify, O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6T19:31:30Z</dcterms:created>
  <dc:creator>Gary Wintergerst</dc:creator>
  <dc:description/>
  <dc:language>en-US</dc:language>
  <cp:lastModifiedBy>U</cp:lastModifiedBy>
  <cp:lastPrinted>1995-12-28T04:25:36Z</cp:lastPrinted>
  <dcterms:modified xsi:type="dcterms:W3CDTF">1997-07-24T17:33:20Z</dcterms:modified>
  <cp:revision>4</cp:revision>
  <dc:subject/>
  <dc:title>No Slide Title</dc:title>
</cp:coreProperties>
</file>