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Be Read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2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be read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be read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be read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lk in Jerusalem just like Joh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ohn, O John, what did you say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in Jerusalem just like Joh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you'd be there on judgment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in Jerusalem just like Joh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be read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be read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be read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lk in Jerusalem just like Joh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hn said the city was just four-squa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in Jerusalem just like Joh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declared he'd meet me t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in Jerusalem just like Joh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be read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be read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be read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alk in Jerusalem just like Joh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sinners, mind how you step on the cros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in Jerusalem just like Joh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foot might slip and your soul get lo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in Jerusalem just like Joh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20:17:48Z</dcterms:created>
  <dc:creator>Gary Wintergerst</dc:creator>
  <dc:description/>
  <dc:language>en-US</dc:language>
  <cp:lastModifiedBy>U</cp:lastModifiedBy>
  <cp:lastPrinted>1996-01-02T15:08:26Z</cp:lastPrinted>
  <dcterms:modified xsi:type="dcterms:W3CDTF">1997-07-24T17:52:06Z</dcterms:modified>
  <cp:revision>4</cp:revision>
  <dc:subject/>
  <dc:title>No Slide Title</dc:title>
</cp:coreProperties>
</file>