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st Jesus B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ross Al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2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st Jesus bear the cross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e world go fr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, there's a cross for every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re's a cross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happy are the saint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once went sorrowing her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now they taste unmingled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oy without a t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onsecrated cross I'll b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death shall set me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n go home my crown to w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re's a crown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8:28:36Z</dcterms:created>
  <dc:creator>Gary Wintergerst</dc:creator>
  <dc:description/>
  <dc:language>en-US</dc:language>
  <cp:lastModifiedBy>U</cp:lastModifiedBy>
  <cp:lastPrinted>1996-01-03T12:35:34Z</cp:lastPrinted>
  <dcterms:modified xsi:type="dcterms:W3CDTF">1997-07-24T15:52:12Z</dcterms:modified>
  <cp:revision>4</cp:revision>
  <dc:subject/>
  <dc:title>No Slide Title</dc:title>
</cp:coreProperties>
</file>