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give Our Sin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We Forgiv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390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83 Rosamond Herklo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"Forgive our sins as we forgive,"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taught us, Lord, to pray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t you alone can grant us grac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live the words we s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w can your pardon reach and bles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unforgiving hear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broods on wrongs and will not le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ld bitterness depart?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blazing light your cross reveal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truth we dimly knew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at trivial debts are owed to 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w great our debt to you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cleanse the depths within our soul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bid resentment ceas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n, bound to all in bonds of lov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 lives will spread your peac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1-09T14:25:34Z</dcterms:created>
  <dc:creator>Gary Wintergerst</dc:creator>
  <dc:description/>
  <dc:language>en-US</dc:language>
  <cp:lastModifiedBy>Gary Wintergerst</cp:lastModifiedBy>
  <cp:lastPrinted>1995-08-07T15:04:32Z</cp:lastPrinted>
  <dcterms:modified xsi:type="dcterms:W3CDTF">1999-11-12T23:01:26Z</dcterms:modified>
  <cp:revision>4</cp:revision>
  <dc:subject/>
  <dc:title>No Slide Title</dc:title>
</cp:coreProperties>
</file>