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ladsome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ladsome light, O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Creator'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ternal splendor wea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stial, holy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avior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in your appear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fades the day's last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the lamp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hymn outpou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of might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he incarnat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irit blest ador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 of right belong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of holy so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 of God, lifegi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therefore, O Most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does glorif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exalt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4:58Z</dcterms:created>
  <dc:creator>Gary Wintergerst</dc:creator>
  <dc:description/>
  <dc:language>en-US</dc:language>
  <cp:lastModifiedBy>U</cp:lastModifiedBy>
  <cp:lastPrinted>1995-12-28T04:33:48Z</cp:lastPrinted>
  <dcterms:modified xsi:type="dcterms:W3CDTF">1997-07-24T17:34:40Z</dcterms:modified>
  <cp:revision>4</cp:revision>
  <dc:subject/>
  <dc:title>No Slide Title</dc:title>
</cp:coreProperties>
</file>