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82160" y="5429160"/>
            <a:ext cx="78552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Sing the Almight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ower of Go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MH 152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8900640" y="644832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609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sing the almighty power of Go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made the mountains ris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spread the flowing seas abroa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built the lofty skie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sing the wisdom that ordaine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sun to rule the day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moon shines full at God's comman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all the stars obe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sing the goodness of the L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filled the earth with foo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formed the creatures thru the W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hen pronounced them goo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how thy wonders are display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re'er I turn my ey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f I survey the ground I trea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r gaze upon the sk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's not a plant or flower below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t makes thy glories know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clouds arise, and tempests blow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y order from thy thron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ile all that borrows life from the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s ever in thy car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everywhere that we can b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, God, art present ther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7-10T19:45:10Z</dcterms:created>
  <dc:creator>Gary Wintergerst</dc:creator>
  <dc:description/>
  <dc:language>en-US</dc:language>
  <cp:lastModifiedBy>U</cp:lastModifiedBy>
  <cp:lastPrinted>1995-07-05T21:57:44Z</cp:lastPrinted>
  <dcterms:modified xsi:type="dcterms:W3CDTF">1997-07-24T00:36:52Z</dcterms:modified>
  <cp:revision>3</cp:revision>
  <dc:subject/>
  <dc:title>No Slide Title</dc:title>
</cp:coreProperties>
</file>