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st and Obe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6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walk with the L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light of his 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glory he sheds on our w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we do his good wi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abides with us sti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ith all who will trust and obe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st and obe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re's no other w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 happy in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o trust and obe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a burden we b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a sorrow we sha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our toil he doth richly rep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a grief or a l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a frown or a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is blest if we trust and obe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st and obe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re's no other w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 happy in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o trust and obe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we never can pr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elights of his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il all on the altar we l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favor he show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joy he bestow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for them who will trust and obe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st and obe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re's no other w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 happy in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o trust and obe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in fellowship swe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sit at his fee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we'll walk by his side in the 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he says we will 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e sends we will g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ver fear, only trust and obe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st and obe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re's no other w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 happy in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o trust and obe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3T20:31:24Z</dcterms:created>
  <dc:creator>Gary Wintergerst</dc:creator>
  <dc:description/>
  <dc:language>en-US</dc:language>
  <cp:lastModifiedBy>U</cp:lastModifiedBy>
  <cp:lastPrinted>1995-08-11T16:01:02Z</cp:lastPrinted>
  <dcterms:modified xsi:type="dcterms:W3CDTF">1997-07-24T15:58:58Z</dcterms:modified>
  <cp:revision>3</cp:revision>
  <dc:subject/>
  <dc:title>No Slide Title</dc:title>
</cp:coreProperties>
</file>