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, Joyfu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Adore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8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Henry Van Dyk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, joyful, we ad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of glory, Lord of lov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arts unfold like flowers bef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ing to the sun ab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lt the clouds of sin and sadn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rive the dark of doubt aw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r of immortal glad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us with the light of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y works with joy surround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th and heaven reflect thy ray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tars and angels sing around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enter of unbroken prais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eld and forest, vale and m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lowery meadow, flashing se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anting bird and flowing fount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ll us to rejoice in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giving and forgiving, 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ing, ever ble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-spring of the joy of liv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cean depth of happy rest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our Father, Christ our br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who live in love are thine; teach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to love each o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ft us to the joy divi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rtals, join the mighty chor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the morning stars bega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divine is reigning o'er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inding all within its sp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 singing, march we onw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ictors in the midst of strif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yful music leads us sunwa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triumph song of lif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2T22:17:14Z</dcterms:created>
  <dc:creator>Gary Wintergerst</dc:creator>
  <dc:description/>
  <dc:language>en-US</dc:language>
  <cp:lastModifiedBy>Gary Wintergerst</cp:lastModifiedBy>
  <cp:lastPrinted>1995-07-01T09:33:58Z</cp:lastPrinted>
  <dcterms:modified xsi:type="dcterms:W3CDTF">2002-06-19T03:03:20Z</dcterms:modified>
  <cp:revision>10</cp:revision>
  <dc:subject/>
  <dc:title>No Slide Title</dc:title>
</cp:coreProperties>
</file>