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Still, My Sou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34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still, my soul: the Lord is on your sid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ar patiently the cross of grief or pai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ve to your God to order and provid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every change God faithful will remai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still, my soul: your best, your heavenly frien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thorny ways leads to a joyful e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still, my soul: your God will undertak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guide the future, as in ages pas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hope, your confidence let nothing shak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now mysterious shall be bright at las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still, my soul: the waves and winds still know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Christ who ruled them while he dwelt belo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still, my soul: the hour is hastening 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we shall be forever with the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disappointment, grief, and fear are go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rrow forgot, love's purest joys restore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still, my soul: when change and tears are pa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safe and blessed we shall meet at la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14T13:54:18Z</dcterms:created>
  <dc:creator>Gary Wintergerst</dc:creator>
  <dc:description/>
  <dc:language>en-US</dc:language>
  <cp:lastModifiedBy>U</cp:lastModifiedBy>
  <cp:lastPrinted>1995-08-11T16:01:02Z</cp:lastPrinted>
  <dcterms:modified xsi:type="dcterms:W3CDTF">1997-07-24T16:38:10Z</dcterms:modified>
  <cp:revision>2</cp:revision>
  <dc:subject/>
  <dc:title>No Slide Title</dc:title>
</cp:coreProperties>
</file>