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Beaut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Earth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92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y church, that evermo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eth holy hands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fering up on every sho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r pure sacrifice of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, to thee we 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our hymn of grateful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y self, best Gift Div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world so freely gi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at great, great love of thi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ace on earth, and joy in heaven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, to thee we 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our hymn of grateful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[Replacement Refrain For Holy Communion]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our God, to thee we 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our sacrifice of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beauty of the ear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glory of the sk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love which from our bir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ver and around us lie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, to thee we 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our hymn of grateful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beauty of each hou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f the day and of the n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ill and vale, and tree and flow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n and moon, and stars of l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, to thee we 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our hymn of grateful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joy of ear and ey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heart and mind's del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mystic harmon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nking sense to sound and sigh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, to thee we 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our hymn of grateful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e joy of human l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ther, sister, parent, chil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riends on earth and friends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all gentle thoughts and mil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, to thee we ra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our hymn of grateful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30T21:41:32Z</dcterms:created>
  <dc:creator>Gary Wintergerst</dc:creator>
  <dc:description/>
  <dc:language>en-US</dc:language>
  <cp:lastModifiedBy>U</cp:lastModifiedBy>
  <dcterms:modified xsi:type="dcterms:W3CDTF">1997-07-22T18:31:34Z</dcterms:modified>
  <cp:revision>4</cp:revision>
  <dc:subject/>
  <dc:title>No Slide Title</dc:title>
</cp:coreProperties>
</file>