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r, In Who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iv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88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ker, in whom we li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whom we are and m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lory, power, and praise receiv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 creating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angel thr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to God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earth repeats the joyful so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choes to the sk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carnate De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ransomed rac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nder in thanks their lives to the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 redeeming g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race to sinners show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e heavenly choirs procla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cry, "Salvation to our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lvation to the Lamb!"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pirit of Holines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y saints ado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sacred energy, and bles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heart-renewing powe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Not angel tongues can tell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love's ecstatic heigh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glorious joy unspeakab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tific s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ternal, Triune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the hosts abov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on earth below rec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well upon thy lov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heaven and earth are fl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thy glorious fac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ll the saints thy love hath mad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ne everlasting prais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30T21:24:56Z</dcterms:created>
  <dc:creator>Gary Wintergerst</dc:creator>
  <dc:description/>
  <dc:language>en-US</dc:language>
  <cp:lastModifiedBy>U</cp:lastModifiedBy>
  <dcterms:modified xsi:type="dcterms:W3CDTF">1997-07-22T18:30:32Z</dcterms:modified>
  <cp:revision>5</cp:revision>
  <dc:subject/>
  <dc:title>No Slide Title</dc:title>
</cp:coreProperties>
</file>