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ld's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8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the world's light, Christ and none o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in our darkness, he became our broth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we have seen him, we have seen the Fathe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on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the world's peace, Christ and none o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one can serve him and despise anoth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else unites us, one in God the Father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on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the world's life, Christ and none o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d once for silver, murdered here, our bro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, who redeems us, reigns with God the Fathe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on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God the glory, God and none o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God the glory, Spirit, Son, and Fa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God the glory, God with us, my brothe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to God on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29:2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4:30:43Z</dcterms:modified>
  <cp:revision>3</cp:revision>
  <dc:subject/>
  <dc:title>No Slide Title</dc:title>
</cp:coreProperties>
</file>