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e Mor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 Ascend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7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the morning sun asc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diant in the eastern sk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the angel voices blen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ir praise to God on hig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God on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may we, in lowly st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the choristers ab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with the whole cre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ing thee for thy great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God abo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ving-kindness 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d upon our earthly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y mercy, ceasing n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 blessing day by da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God alw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Wisdom, honor, power, and blessing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angelic host we c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ound thy throne, thy name conf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would to thee draw n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God on high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9:18:22Z</dcterms:created>
  <dc:creator>Gary Wintergerst</dc:creator>
  <dc:description/>
  <dc:language>en-US</dc:language>
  <cp:lastModifiedBy>U</cp:lastModifiedBy>
  <cp:lastPrinted>1995-12-28T04:24:58Z</cp:lastPrinted>
  <dcterms:modified xsi:type="dcterms:W3CDTF">1997-07-24T17:33:14Z</dcterms:modified>
  <cp:revision>3</cp:revision>
  <dc:subject/>
  <dc:title>No Slide Title</dc:title>
</cp:coreProperties>
</file>