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Child Is Thi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1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child is this who, laid to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Mary's lap is sleeping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angels greet with anthems sw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shepherds watch are keeping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, this is Christ the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epherds guard and angels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te, haste to bring him lau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abe, the son of Ma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lies he in such mean esta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ox and ass are feeding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Christians, fear, for sinners he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ilent Word is plead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, this is Christ the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epherds guard and angels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te, haste to bring him lau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abe, the son of Ma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bring him incense, gold, and myrr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peasant, king, to own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kings salvation br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loving hearts enthrone hi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, this is Christ the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epherds guard and angels 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te, haste to bring him lau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abe, the son of Ma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6:13:46Z</dcterms:created>
  <dc:creator>Gary Wintergerst</dc:creator>
  <dc:description/>
  <dc:language>en-US</dc:language>
  <cp:lastModifiedBy>U</cp:lastModifiedBy>
  <cp:lastPrinted>1995-08-30T07:48:42Z</cp:lastPrinted>
  <dcterms:modified xsi:type="dcterms:W3CDTF">1997-07-24T04:50:16Z</dcterms:modified>
  <cp:revision>2</cp:revision>
  <dc:subject/>
  <dc:title>No Slide Title</dc:title>
</cp:coreProperties>
</file>