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ank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ur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10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w thank we all 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heart and hands and voi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wondrous things has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om this world rejoic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rom our mothers' arm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s blessed us on our w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countless gifts of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till is ours to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may this bounteous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all our life be near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ever joyful hear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blessed peace to cheer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keep us still in gr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uide us when perplexe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ee us from all ill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is world and the nex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praise and thanks to Go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Father now be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Son, and him who reign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th them in highest hea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one eternal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m earth and heaven ador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us it was, is n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shall be evermor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1T14:30:24Z</dcterms:created>
  <dc:creator>Gary Wintergerst</dc:creator>
  <dc:description/>
  <dc:language>en-US</dc:language>
  <cp:lastModifiedBy>U</cp:lastModifiedBy>
  <dcterms:modified xsi:type="dcterms:W3CDTF">1997-07-22T20:17:34Z</dcterms:modified>
  <cp:revision>4</cp:revision>
  <dc:subject/>
  <dc:title>No Slide Title</dc:title>
</cp:coreProperties>
</file>