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 God, W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hy Nam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079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79f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Sts. 5-7 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1985 The Church Pension Fun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rist, thou art our glorious K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n of God, enthroned in splendo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deliverance to br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all honors didst surrend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ast of a virgin bor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umbly on that blessed mor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didst take the sting from deat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n of God, as Savior give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 the cross thy dying breath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pened wide the realm of heaven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the glory of that lan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art set at God's right han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our judge thou wilt appea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vior, who has died to win u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lp thy servants, drawing nea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, renew our hearts within u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rant that with thy saints we may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well in everlasting da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 God, we praise thy nam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 of all, we bow before the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on earth thy scepter claim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in heaven above adore the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finite thy vast domai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lasting is thy reig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ark, the glad celestial hym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gel choirs above are rais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erubim and seraphim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unceasing chorus prais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ill the heavens with sweet accord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, holy, holy Lor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! the apostolic trai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ins thy sacred name to hallow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ophets swell the glad refrai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 white-robed martyrs follow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from morn to set of su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rough the church the song goes o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 Father, Holy S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 Spirit: three we name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gh in essence only on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ndivided God we claim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adoring bend the kne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le we own the myster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26T21:42:20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08T02:03:32Z</dcterms:modified>
  <cp:revision>5</cp:revision>
  <dc:subject/>
  <dc:title>No Slide Title</dc:title>
</cp:coreProperties>
</file>