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, living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pite of dungeon, fire, and sw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our hearts beat high with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e'er we hear that glorious w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, holy fait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be true to thee till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, we will str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in all nations un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 the truth that comes from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ll shall then be truly f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, holy fait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be true to thee till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, we will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th friend and foe in all our str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each thee, too, as love knows h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kindly words and virtuous lif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of the martyrs, holy fait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be true to thee till dea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53:16Z</dcterms:created>
  <dc:creator>Gary Wintergerst</dc:creator>
  <dc:description/>
  <dc:language>en-US</dc:language>
  <cp:lastModifiedBy>U</cp:lastModifiedBy>
  <cp:lastPrinted>1995-08-11T16:01:02Z</cp:lastPrinted>
  <dcterms:modified xsi:type="dcterms:W3CDTF">1997-07-24T17:50:20Z</dcterms:modified>
  <cp:revision>3</cp:revision>
  <dc:subject/>
  <dc:title>No Slide Title</dc:title>
</cp:coreProperties>
</file>