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the Ho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God Is The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4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the home when God is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ve fills every bre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ne their wish, and one their pray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ne their heavenly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the home where Jesus' n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sweet to every 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children early speak his f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arents hold him d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the home where prayer is he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raise is wont to r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parents love the sacred W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its wisdom priz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let us in our homes agr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blessed peace to 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ite our hearts in lov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ve to all will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1T16:09:20Z</dcterms:created>
  <dc:creator>Gary Wintergerst</dc:creator>
  <dc:description/>
  <dc:language>en-US</dc:language>
  <cp:lastModifiedBy>U</cp:lastModifiedBy>
  <cp:lastPrinted>1995-08-11T16:01:02Z</cp:lastPrinted>
  <dcterms:modified xsi:type="dcterms:W3CDTF">1997-07-24T15:55:56Z</dcterms:modified>
  <cp:revision>4</cp:revision>
  <dc:subject/>
  <dc:title>No Slide Title</dc:title>
</cp:coreProperties>
</file>