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w Let Us from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Table Ris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634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68 Hope Publ. Co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w let us from this table ris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newed in body, mind, and soul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Christ we die and live agai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s selfless love has made us whol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minds alert, upheld by grac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spread the word in speech and de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follow in the steps of Chris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t one with all in hope and nee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fill each human house with lov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t is the sacrament of car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work that Christ began to do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humbly pledge ourselves to shar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n grant us courage, Father Go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choose again the pilgrim wa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help us to accept with jo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challenge of tomorrow's d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24T23:03:26Z</dcterms:created>
  <dc:creator>Gary Wintergerst</dc:creator>
  <dc:description/>
  <dc:language>en-US</dc:language>
  <cp:lastModifiedBy>Gary Wintergerst</cp:lastModifiedBy>
  <cp:lastPrinted>1995-12-25T20:38:52Z</cp:lastPrinted>
  <dcterms:modified xsi:type="dcterms:W3CDTF">1999-11-14T02:32:07Z</dcterms:modified>
  <cp:revision>5</cp:revision>
  <dc:subject/>
  <dc:title>No Slide Title</dc:title>
</cp:coreProperties>
</file>