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p From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ve He Aros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2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w in the grave he l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my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iting the coming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my Lor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p from the grave he aro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a mighty triumph o'er his fo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arose a victor from the dark dom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lives forever, with his saints to reig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arose! He aros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! Christ aros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ainly they watch his b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my Savio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ainly they seal the d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my Lor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p from the grave he aro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a mighty triumph o'er his fo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arose a victor from the dark dom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lives forever, with his saints to reig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arose! He aros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! Christ aros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th cannot keep its pre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my Savio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tore the bars a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my Lor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p from the grave he aro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a mighty triumph o'er his fo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arose a victor from the dark dom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lives forever, with his saints to reig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arose! He aros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elujah! Christ aros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2T12:28:02Z</dcterms:created>
  <dc:creator>Gary Wintergerst</dc:creator>
  <dc:description/>
  <dc:language>en-US</dc:language>
  <cp:lastModifiedBy>U</cp:lastModifiedBy>
  <cp:lastPrinted>1995-08-02T12:13:40Z</cp:lastPrinted>
  <dcterms:modified xsi:type="dcterms:W3CDTF">1997-07-24T14:25:14Z</dcterms:modified>
  <cp:revision>2</cp:revision>
  <dc:subject/>
  <dc:title>No Slide Title</dc:title>
</cp:coreProperties>
</file>