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May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yes, that I may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impses of truth thou hast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ce in my hands the wonderful ke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hall unclasp and set me f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ly now I wait for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dy, my God, thy will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yes, illumin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div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ars, that I may h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oices of truth thou sendest cl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the wavenotes fall on my 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thing false will disapp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ly now I wait for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dy, my God, thy will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ears, illumin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div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mouth, and let me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ly the warm truth everyw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heart and let me prep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with thy children thus to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ly now I wait for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dy, my God, thy will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my heart, illumin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div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24:02Z</dcterms:created>
  <dc:creator>Gary Wintergerst</dc:creator>
  <dc:description/>
  <dc:language>en-US</dc:language>
  <cp:lastModifiedBy>U</cp:lastModifiedBy>
  <cp:lastPrinted>1995-08-11T16:01:02Z</cp:lastPrinted>
  <dcterms:modified xsi:type="dcterms:W3CDTF">1997-07-24T15:57:32Z</dcterms:modified>
  <cp:revision>3</cp:revision>
  <dc:subject/>
  <dc:title>No Slide Title</dc:title>
</cp:coreProperties>
</file>