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875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My Soul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King of Heav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ctr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87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Henry F. Lyte, 1834 (Ps. 103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, my soul, the King of hea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the throne thy tribute bring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ansomed, healed, restored, forgive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more God's praises sing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everlasting King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the Lord for grace and favor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all people in distres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God, still the same as ever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low to chide, and quick to bles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lorious now God's faithfulnes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therlike, God tends and spares u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ll our feeble frame God knows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otherlike, God gently bears u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rescues us from all our foe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idely yet God's mercy flow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gels in the heights, ad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ou behold God face to face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ints triumphant, now ador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athered in from every race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eluia! Alleluia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raise with us the God of grac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26:5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1-06-22T23:20:23Z</dcterms:modified>
  <cp:revision>4</cp:revision>
  <dc:subject/>
  <dc:title>No Slide Title</dc:title>
</cp:coreProperties>
</file>