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Like 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 Lead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8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like a shepherd lea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ch we need thy tender c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pleasant pastures fee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use thy folds prep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bought us, thine we 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bought us, thine we 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ine, thou dost befrie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 guardian of our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thy flock, from sin defe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us when we go ast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, O hear us when we pr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, O hear us when we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promised to recei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or and sinful though we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mercy to reliev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o cleanse and power to f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early turn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early turn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y let us seek thy fav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y let us do thy w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Lord and onl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y love our bosoms f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loved us, love us st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Jesus, bles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loved us, love us st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6T20:42:02Z</dcterms:created>
  <dc:creator>Gary Wintergerst</dc:creator>
  <dc:description/>
  <dc:language>en-US</dc:language>
  <cp:lastModifiedBy>U</cp:lastModifiedBy>
  <cp:lastPrinted>1995-08-03T22:17:52Z</cp:lastPrinted>
  <dcterms:modified xsi:type="dcterms:W3CDTF">1997-07-24T14:32:58Z</dcterms:modified>
  <cp:revision>3</cp:revision>
  <dc:subject/>
  <dc:title>No Slide Title</dc:title>
</cp:coreProperties>
</file>