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Is Dy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W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is dying in the w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is touching earth with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 and worship while the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s the evening lamps a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sk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of Host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prai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life, beneath the d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universe, thy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 us who seek thy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fold of thy emb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art n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of Host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prai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deepening shadows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 of love enfolding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glory and the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stars that veil thy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asc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of Host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prai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forever from our s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 the stars, the day,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ngels, on our ey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ternal morning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dows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of Host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full of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 and earth are prai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ost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57:32Z</dcterms:created>
  <dc:creator>Gary Wintergerst</dc:creator>
  <dc:description/>
  <dc:language>en-US</dc:language>
  <cp:lastModifiedBy>U</cp:lastModifiedBy>
  <cp:lastPrinted>1995-12-28T04:38:28Z</cp:lastPrinted>
  <dcterms:modified xsi:type="dcterms:W3CDTF">1997-07-24T17:34:48Z</dcterms:modified>
  <cp:revision>4</cp:revision>
  <dc:subject/>
  <dc:title>No Slide Title</dc:title>
</cp:coreProperties>
</file>