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 Is Daw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mas morn is daw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sh that I coul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by the manger-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n, newborn, to s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by the manger-crad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Son, newborn, to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kind of you, our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to come to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not by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 your lowly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we not by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 your lowly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you, O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 our dearest fri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will guard and guid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to life'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 will guard and guide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to life'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21:45:3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6:20Z</dcterms:modified>
  <cp:revision>3</cp:revision>
  <dc:subject/>
  <dc:title>No Slide Title</dc:title>
</cp:coreProperties>
</file>