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Love 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Pow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7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love and God of pow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us in this burning hou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 to ask these gifts of th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ring hearts and spirits fr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love and God of pow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hast called us for this hou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not the first to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anished by our fears from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us courage, let us hea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ven's trumpets ringing cle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love and God of pow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hast called us for this hou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lives belong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our final loyalt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laves are we whene'er we sha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devotion anywhe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love and God of pow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hast called us for this hou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love and God of pow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us worthy of this hou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fering lives if it's thy wi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eeping free our spirits sti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love and God of pow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hast called us for this hou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5T16:50:48Z</dcterms:created>
  <dc:creator>Gary Wintergerst</dc:creator>
  <dc:description/>
  <dc:language>en-US</dc:language>
  <cp:lastModifiedBy>U</cp:lastModifiedBy>
  <cp:lastPrinted>1995-08-11T16:01:02Z</cp:lastPrinted>
  <dcterms:modified xsi:type="dcterms:W3CDTF">1997-07-24T16:53:00Z</dcterms:modified>
  <cp:revision>3</cp:revision>
  <dc:subject/>
  <dc:title>No Slide Title</dc:title>
</cp:coreProperties>
</file>