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5627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'Tis So Sweet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Trust In Jesus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462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'Tis so sweet to trust in Jesu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to take him at his word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ust to rest upon his promis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to know, "Thus saith the Lord."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esus, Jesus, how I trust him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w I've proved him o'er and o'er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esus, Jesus, precious Jesus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for grace to trust him more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how sweet to trust in Jesu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ust to trust his cleansing blood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in simple faith to plunge m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eath the healing, cleansing flood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esus, Jesus, how I trust him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w I've proved him o'er and o'er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esus, Jesus, precious Jesus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for grace to trust him more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es, 'tis sweet to trust in Jesu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ust from sin and self to ceas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ust from Jesus simply taking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ife and rest, and joy and peac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esus, Jesus, how I trust him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w I've proved him o'er and o'er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esus, Jesus, precious Jesus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for grace to trust him more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'm so glad I learned to trust the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ecious Jesus, Savior, friend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I know that thou art with m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lt be with me to the end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esus, Jesus, how I trust him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w I've proved him o'er and o'er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esus, Jesus, precious Jesus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for grace to trust him more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12-02T13:21:04Z</dcterms:created>
  <dc:creator>Gary Wintergerst</dc:creator>
  <dc:description/>
  <dc:language>en-US</dc:language>
  <cp:lastModifiedBy>U</cp:lastModifiedBy>
  <cp:lastPrinted>1995-08-07T15:04:32Z</cp:lastPrinted>
  <dcterms:modified xsi:type="dcterms:W3CDTF">1997-07-24T15:58:24Z</dcterms:modified>
  <cp:revision>3</cp:revision>
  <dc:subject/>
  <dc:title>No Slide Title</dc:title>
</cp:coreProperties>
</file>