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Me, H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me, hands of Jesus, and search out all my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ore my hope, remove my fear; and bring me peace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nse me, blood of Jesus, take bitterness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forgive as one forgiven and bring me peace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 me, mind of Jesus, and show me all my s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pel the memories of guilt and bring me peace with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me, joy of Jesus; anxiety shall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ven's serenity be mine, for Jesus brings me pe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54:4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11:46Z</dcterms:modified>
  <cp:revision>3</cp:revision>
  <dc:subject/>
  <dc:title>No Slide Title</dc:title>
</cp:coreProperties>
</file>