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re Be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4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re be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re be understa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e nations gath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m be face to f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our lip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our minds to pond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the door of conc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ing into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ish the s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ish the angry judgm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ish the bombs and hun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ish the fight for 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 our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 the deaths of marty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 their holy freedo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 be your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kingdom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Spirit turn to langu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people speak toge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Spirit never fa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re be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 our hearts to wond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ish the way of terr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 the world God ma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08:44:06Z</dcterms:created>
  <dc:creator>Gary Wintergerst</dc:creator>
  <dc:description/>
  <dc:language>en-US</dc:language>
  <cp:lastModifiedBy>U</cp:lastModifiedBy>
  <cp:lastPrinted>1996-01-03T12:44:38Z</cp:lastPrinted>
  <dcterms:modified xsi:type="dcterms:W3CDTF">1997-07-24T15:55:00Z</dcterms:modified>
  <cp:revision>4</cp:revision>
  <dc:subject/>
  <dc:title>No Slide Title</dc:title>
</cp:coreProperties>
</file>