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Gard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ome to the garden al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the dew is still on the ro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voice I hear falling on my 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on of God disclos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walks wi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talks wi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tells me I am his 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joy we sh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tarry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ne other has ever 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speaks, and the sound of his voi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so sweet the birds hush their sing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melody that he gave to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in my heart is ring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walks wi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talks wi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tells me I am his 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joy we sh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tarry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ne other has ever 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'd stay in the garden with h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the night around me be fall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he bids me go; thru the voice of wo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voice to me is call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walks wi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talks with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tells me I am his 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joy we sha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tarry the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ne other has ever 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1:35:58Z</dcterms:created>
  <dc:creator>Gary Wintergerst</dc:creator>
  <dc:description/>
  <dc:language>en-US</dc:language>
  <cp:lastModifiedBy>U</cp:lastModifiedBy>
  <cp:lastPrinted>1995-07-30T22:04:06Z</cp:lastPrinted>
  <dcterms:modified xsi:type="dcterms:W3CDTF">1997-07-24T14:24:14Z</dcterms:modified>
  <cp:revision>3</cp:revision>
  <dc:subject/>
  <dc:title>No Slide Title</dc:title>
</cp:coreProperties>
</file>