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ttle Hymn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Republic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eauty of the li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as born across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glory in his bos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ransfigures you a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he died to make men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die to make men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coming like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morning on the w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wisdom to the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honor to the b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e world shall be his footsto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oul of wrong his sl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ne eyes have seen the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coming of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trampling out the vintag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grapes of wrath are st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loosed the fateful light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s terrible swift s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seen him in the watchfi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hundred circling camp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have builded him an al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evening dews and dam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read his righteous sent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dim and flaring lam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day is marching 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glory,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s sounded forth the trump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never call retr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s sifting out the hearts of m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his judgment sea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 swift, my soul, to answer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jubilant, my fee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God is marching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03:24Z</dcterms:created>
  <dc:creator>Gary Wintergerst</dc:creator>
  <dc:description/>
  <dc:language>en-US</dc:language>
  <cp:lastModifiedBy>U</cp:lastModifiedBy>
  <cp:lastPrinted>1995-08-11T16:01:02Z</cp:lastPrinted>
  <dcterms:modified xsi:type="dcterms:W3CDTF">1997-07-24T17:51:38Z</dcterms:modified>
  <cp:revision>5</cp:revision>
  <dc:subject/>
  <dc:title>No Slide Title</dc:title>
</cp:coreProperties>
</file>