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N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3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ent from giving bi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uard our precious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is on the earth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crow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eping up behi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uching is allow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ek and you will fin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at the we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stion the Messia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nd your friends and te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nk your heart's desir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at the fe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righteous sta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go in pe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him with your hair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an in the hous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urtured to be meek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ve your second pl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sten, think, and speak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 on the 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comed and restor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ravel far and wid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ness to the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 on the h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nd when men have fle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needs loving stil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your hope is dea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6000"/>
          </a:bodyPr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 in the daw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re and spices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iest to mour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iest to s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 and join the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men, children, m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7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 makes us free to live again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53:02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19:20Z</dcterms:modified>
  <cp:revision>3</cp:revision>
  <dc:subject/>
  <dc:title>No Slide Title</dc:title>
</cp:coreProperties>
</file>