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, Christi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ier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7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 then, ye peop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our happy th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nd with ours your voic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triumph so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, laud, and hon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o Christ the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through countless ag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n and angels s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, Christian soldi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ching as to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cross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ing on bef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, Christian soldi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ching as to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cross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ing on befo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e royal Mas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s against the fo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ward into battle see his banners g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, Christian soldi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ching as to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cross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ing on bef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sign of triump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tan's host doth fl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n, Christian soldi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o victor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l's foundations qui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the shout of p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s, lift your voi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ud your anthems 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, Christian soldi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ching as to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cross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ing on bef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mighty ar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ves the church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s, we are trea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saints have tr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not divi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ne body w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in hope and doctr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in charit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, Christian soldi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ching as to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cross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ing on bef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s and thrones may peris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gdoms rise and wa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church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stant will rem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es of hell can n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inst that church prevai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Christ's own prom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at cannot fai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ward, Christian soldi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ching as to w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cross of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ing on bef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44:14Z</dcterms:created>
  <dc:creator>Gary Wintergerst</dc:creator>
  <dc:description/>
  <dc:language>en-US</dc:language>
  <cp:lastModifiedBy>U</cp:lastModifiedBy>
  <cp:lastPrinted>1995-08-11T16:01:02Z</cp:lastPrinted>
  <dcterms:modified xsi:type="dcterms:W3CDTF">1997-07-24T16:51:24Z</dcterms:modified>
  <cp:revision>4</cp:revision>
  <dc:subject/>
  <dc:title>No Slide Title</dc:title>
</cp:coreProperties>
</file>