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ke, Awake, f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ght is Fly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2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there is our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we rejoice and sing to th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ymn of joy eternall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ke, awake, for night is fly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atchmen on the heights are crying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wake, Jerusalem, at las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dnight hears the welcome voic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t the thrilling cry rejoic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forth, ye virgins, night is pa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ridegroom comes, awak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amps with gladness tak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or his marriage feast prepa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ye must go and meet him t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Zion hears the watchmen sing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her heart with joy is spring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 wakes, she rises from her gloo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her Lord comes down all-glorio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trong in grace, in truth victorio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 Star is risen; her Light is co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h come, thou blessed 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own beloved Son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follow till the halls we s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ou hast bid us sup with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let all the heavens adore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aints and angels sing before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arp and cymbal's clearest t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one pearl each shining port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we are with the choir immorta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angels round thy dazzling thr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eye hath seen, nor 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th yet attained to h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20:12:14Z</dcterms:created>
  <dc:creator>Gary Wintergerst</dc:creator>
  <dc:description/>
  <dc:language>en-US</dc:language>
  <cp:lastModifiedBy>U</cp:lastModifiedBy>
  <cp:lastPrinted>1996-01-02T15:07:26Z</cp:lastPrinted>
  <dcterms:modified xsi:type="dcterms:W3CDTF">1997-07-24T17:51:56Z</dcterms:modified>
  <cp:revision>4</cp:revision>
  <dc:subject/>
  <dc:title>No Slide Title</dc:title>
</cp:coreProperties>
</file>