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Let Us Us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Grace Divi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0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let us use the grace divine, and all with one acc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a perpetual covenant join ourselves to Christ the Lor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up ourselves, thru Jesus' power, his name to glorif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promise, in this sacred hour, for God to live and di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covenant we this moment make be ever kept in mi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ill no more our God forsake, or cast these words behin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never will throw off the fear of God who hears our vow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f thou art well pleased to hear, come down and meet us no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e, Father, Son, and Holy Ghost, let all our hearts recei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esent with thy celestial host the peaceful answer gi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each covenant the blood apply which takes our sins aw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register our names on high and keep us to that da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4T20:34:32Z</dcterms:created>
  <dc:creator>Gary Wintergerst</dc:creator>
  <dc:description/>
  <dc:language>en-US</dc:language>
  <cp:lastModifiedBy>U</cp:lastModifiedBy>
  <cp:lastPrinted>1995-12-25T20:15:26Z</cp:lastPrinted>
  <dcterms:modified xsi:type="dcterms:W3CDTF">1997-07-24T17:19:16Z</dcterms:modified>
  <cp:revision>4</cp:revision>
  <dc:subject/>
  <dc:title>No Slide Title</dc:title>
</cp:coreProperties>
</file>