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r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ll In Pai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5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33 Dohnavur Fellowsh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r Lord, for all in pain we pray to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 and smite again thine enem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o thy servants skill to soothe and bl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o the tired and ill give quietne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, Lord, to those who know pain may not cea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near, that even so they may have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2T13:14:10Z</dcterms:created>
  <dc:creator>Gary Wintergerst</dc:creator>
  <dc:description/>
  <dc:language>en-US</dc:language>
  <cp:lastModifiedBy>Gary Wintergerst</cp:lastModifiedBy>
  <cp:lastPrinted>1996-01-02T16:56:46Z</cp:lastPrinted>
  <dcterms:modified xsi:type="dcterms:W3CDTF">1999-11-14T00:25:38Z</dcterms:modified>
  <cp:revision>4</cp:revision>
  <dc:subject/>
  <dc:title>No Slide Title</dc:title>
</cp:coreProperties>
</file>