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icle of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from the RSV Bible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not know how to pray as we 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Spirit intercedes for us with sighs too deep for wor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, and it will be given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, and you will fin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ck, and it will be opened to you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not know how to pray as we 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Spirit intercedes for us with sighs too deep for wor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who ask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ho seek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ose who knock it will be open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do not know how to pray as we 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Spirit intercedes for us with sighs too deep for wor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0:59:52Z</dcterms:created>
  <dc:creator>Gary Wintergerst</dc:creator>
  <dc:description/>
  <dc:language>en-US</dc:language>
  <cp:lastModifiedBy>Gary Wintergerst</cp:lastModifiedBy>
  <cp:lastPrinted>1996-01-02T16:33:46Z</cp:lastPrinted>
  <dcterms:modified xsi:type="dcterms:W3CDTF">1999-11-14T00:06:30Z</dcterms:modified>
  <cp:revision>5</cp:revision>
  <dc:subject/>
  <dc:title>No Slide Title</dc:title>
</cp:coreProperties>
</file>