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31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gather toge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sk the Lord's bles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chastens and hast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will to make kn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cked oppres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cease from distres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praises to his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forgets not his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side us to guid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with us joi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daining, maintai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div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om the begin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ight we were win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, Lord, wast at ou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be thi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do extol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eader triumph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ay that thou sti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efender wilt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y congreg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scape tribul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name be ever prais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make us fr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3T21:35:12Z</dcterms:created>
  <dc:creator>Gary Wintergerst</dc:creator>
  <dc:description/>
  <dc:language>en-US</dc:language>
  <cp:lastModifiedBy>U</cp:lastModifiedBy>
  <cp:lastPrinted>1995-07-02T18:21:44Z</cp:lastPrinted>
  <dcterms:modified xsi:type="dcterms:W3CDTF">1997-07-24T00:32:52Z</dcterms:modified>
  <cp:revision>3</cp:revision>
  <dc:subject/>
  <dc:title>No Slide Title</dc:title>
</cp:coreProperties>
</file>