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e Heal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e healer, we have 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y for health, to plead for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we fail to be resto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reached by love that never ends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very ailment flesh endu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dies clamor to be fr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our hearts we would conf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holeness is our deepest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strong, O Lord, are our des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eak our knowledge of ourselve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lease in us those healing trut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onscious pride resists or shel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nflicts that destroy our heal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cognize the world's dis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 declares our ill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no cure, O Christ, for thes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e all, made one in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community may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ness that, enrichi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reach the whole of humank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1:1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4:52Z</dcterms:modified>
  <cp:revision>3</cp:revision>
  <dc:subject/>
  <dc:title>No Slide Title</dc:title>
</cp:coreProperties>
</file>