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ree King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now behold him a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and God and sacrif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unds through the earth and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ree kings of Orient 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gifts we traverse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d and fountain, moor and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llowing yonder st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a King on Bethlehem's p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ld I bring to crown him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forever, ceasing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us all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nkincense to offer have 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ense owns a Deity nig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er and praising, voices 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ing God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rrh is mine; its bitter perfu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thes a life of gathering g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ing, sighing, bleeding,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ed in the stone-cold tomb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tar of wonder, star of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with royal beauty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stward leading, still procee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thy perfect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30:42Z</dcterms:created>
  <dc:creator>Gary Wintergerst</dc:creator>
  <dc:description/>
  <dc:language>en-US</dc:language>
  <cp:lastModifiedBy>U</cp:lastModifiedBy>
  <cp:lastPrinted>1995-08-30T07:48:42Z</cp:lastPrinted>
  <dcterms:modified xsi:type="dcterms:W3CDTF">1997-07-24T04:57:28Z</dcterms:modified>
  <cp:revision>2</cp:revision>
  <dc:subject/>
  <dc:title>No Slide Title</dc:title>
</cp:coreProperties>
</file>