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7080" y="4876920"/>
            <a:ext cx="75060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braham Pra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of Abraham praise, who reigns enthroned ab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cient of Everlasting Days, and Go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hovah, great I AM! by earth and heaven confess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bow and bless the sacred name forever bles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eat I AM has sworn; I on this oath dep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, on eagle wings up-borne, to heaven asc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hall behold God's face; I shall God's power ado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ing the wonders of God's grace for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ly land I see, with peace and plenty ble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land of sacred liberty, and endless res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milk and honey flow, and oil and wine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rees of life forever grow with mercy crown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od who reigns on high the great archangel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"Holy, holy, holy!" cry, "Almighty King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as, and is, the same, and evermore shall b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ehovah, Lord, the great I AM, we worship thee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51:54Z</dcterms:created>
  <dc:creator>Gary Wintergerst</dc:creator>
  <dc:description/>
  <dc:language>en-US</dc:language>
  <cp:lastModifiedBy>U</cp:lastModifiedBy>
  <cp:lastPrinted>1995-08-11T16:01:02Z</cp:lastPrinted>
  <dcterms:modified xsi:type="dcterms:W3CDTF">1997-07-22T20:26:34Z</dcterms:modified>
  <cp:revision>3</cp:revision>
  <dc:subject/>
  <dc:title>No Slide Title</dc:title>
</cp:coreProperties>
</file>