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ing Wh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Says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ing when the Spirit says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ing when the Spirit says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ing when the Spirit says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bey the Spirit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pray when the Spirit says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pray when the Spirit says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pray when the Spirit says pra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bey the Spirit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moan when the Spirit says mo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moan when the Spirit says mo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moan when the Spirit says moa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bey the Spirit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hout when the Spirit says shou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hout when the Spirit says shou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’m goin’ a shout when the Spirit says shout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bey the Spirit of the L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11T16:09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03-21T01:21:16Z</dcterms:modified>
  <cp:revision>6</cp:revision>
  <dc:subject/>
  <dc:title>No Slide Title</dc:title>
</cp:coreProperties>
</file>