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 Agai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7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his counsels guide, uphold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sheep securely fold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 at Jesus' fee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th his wings securely hide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manna still provide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 at Jesus' fee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ife's perils thick confound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t his arms unfailing round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 at Jesus' fee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love's banner floating o'er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mite death's threatening wave before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 at Jesus' fee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we meet,  till we mee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be with you till we meet ag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9:15:08Z</dcterms:created>
  <dc:creator>Gary Wintergerst</dc:creator>
  <dc:description/>
  <dc:language>en-US</dc:language>
  <cp:lastModifiedBy>U</cp:lastModifiedBy>
  <cp:lastPrinted>1995-12-28T04:24:20Z</cp:lastPrinted>
  <dcterms:modified xsi:type="dcterms:W3CDTF">1997-07-24T17:33:00Z</dcterms:modified>
  <cp:revision>4</cp:revision>
  <dc:subject/>
  <dc:title>No Slide Title</dc:title>
</cp:coreProperties>
</file>