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Satisfy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ungry Hear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2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7 Archdiocese of Philadelph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satisfy the hungry he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gift of finest whea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give to us, O saving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read of life to ea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give yourself to us, O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selfless let us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rve each other in your na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ruth and chari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satisfy the hungry he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gift of finest whea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give to us, O saving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read of life to ea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satisfy the hungry he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gift of finest whea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give to us, O saving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read of life to ea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hen the shepherd calls his sheep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know and heed his voi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when you call your family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follow and rejoi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satisfy the hungry he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gift of finest whea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give to us, O saving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read of life to ea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joyful lips we sing to you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praise and gratitu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you should count us worthy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hare this heavenly fo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satisfy the hungry he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gift of finest whea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give to us, O saving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read of life to ea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not the cup we bless and sha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lood of Christ out-poured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 not one cup, one loaf, decla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oneness in the Lord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satisfy the hungry he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gift of finest whea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give to us, O saving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read of life to ea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ystery of your presence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mortal tongue can te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m all the world cannot conta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s in our hearts to dwe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08:07:12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14T02:28:01Z</dcterms:modified>
  <cp:revision>4</cp:revision>
  <dc:subject/>
  <dc:title>No Slide Title</dc:title>
</cp:coreProperties>
</file>