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71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5160" y="432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071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5160" y="3544200"/>
            <a:ext cx="2879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0320" y="354420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0320" y="4320"/>
            <a:ext cx="436464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60" y="3544200"/>
            <a:ext cx="8944200" cy="323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3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4" marL="277200" indent="-2772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5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lvl="6" marL="277200" indent="-277200">
              <a:lnSpc>
                <a:spcPct val="110000"/>
              </a:lnSpc>
              <a:spcBef>
                <a:spcPts val="601"/>
              </a:spcBef>
              <a:buClr>
                <a:srgbClr val="00279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318520" y="5562720"/>
            <a:ext cx="749160" cy="106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79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We That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ove the Lord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Arial"/>
              </a:rPr>
              <a:t>UMH 732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Come, we that love the L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let our joys be known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join in a song with sweet accor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thus surround the throne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Let those refuse to s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ho never knew our God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ut children of the heavenly King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may speak their joys abroad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 hill of Zion yield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 thousand sacred sweets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efore we reach the heavenly fields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or walk the golden streets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23840" y="4320"/>
            <a:ext cx="8943840" cy="6777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57200" bIns="457200" anchor="t">
            <a:normAutofit/>
          </a:bodyPr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hen let our songs ab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and every tear be dry;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e're marching through Emmanuel's ground,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9144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to fairer worlds on high.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c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7160" y="4320"/>
            <a:ext cx="8944200" cy="67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8-23T22:15:50Z</dcterms:created>
  <dc:creator>Gary Wintergerst</dc:creator>
  <dc:description/>
  <dc:language>en-US</dc:language>
  <cp:lastModifiedBy>U</cp:lastModifiedBy>
  <cp:lastPrinted>1995-08-11T16:01:02Z</cp:lastPrinted>
  <dcterms:modified xsi:type="dcterms:W3CDTF">1997-07-24T17:53:14Z</dcterms:modified>
  <cp:revision>3</cp:revision>
  <dc:subject/>
  <dc:title>No Slide Title</dc:title>
</cp:coreProperties>
</file>