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re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On Ea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3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3 Jan-Lee Mus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re be peace on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it begin with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re be peace on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eace that was meant to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od our creat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ren all are w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walk with each o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erfect harmon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peace begin with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is be the moment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every step I tak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is be my solemn vow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ake each moment and live each momen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eace eternall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re be peace on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it begin with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2:16:3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11:17Z</dcterms:modified>
  <cp:revision>4</cp:revision>
  <dc:subject/>
  <dc:title>No Slide Title</dc:title>
</cp:coreProperties>
</file>