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Shine 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ght Has 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ise, shine out, your light has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folding city of our dream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distant hills a glory gleam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w creation has begu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earth's valleys, thick with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on your walls the dawn app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tory shall dry its t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nations march toward your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alls surpassing time and sp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numbered gates, like open h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gather gifts from all the l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lcome all the human 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unds of violence shall cea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dwellings of salvation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arkle in eternal sk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venues of praise and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ncing air shall glow with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un and moon give up their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shines out of ever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od, our glory, and de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21:26Z</dcterms:created>
  <dc:creator>Gary Wintergerst</dc:creator>
  <dc:description/>
  <dc:language>en-US</dc:language>
  <cp:lastModifiedBy>Gary Wintergerst</cp:lastModifiedBy>
  <cp:lastPrinted>1996-01-02T15:10:06Z</cp:lastPrinted>
  <dcterms:modified xsi:type="dcterms:W3CDTF">1999-11-14T03:03:21Z</dcterms:modified>
  <cp:revision>5</cp:revision>
  <dc:subject/>
  <dc:title>No Slide Title</dc:title>
</cp:coreProperties>
</file>