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71500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rching to Zio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3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Isaac Watts, refrain by Robert Low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our song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tear be d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hrough Emmanuel's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hrough Emmanuel's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irer worlds on high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irer worlds on high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e that lov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joys be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in a song with sweet ac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in a song with sweet accord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surround the throne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surround 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ose refuse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never knew our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 of the heavenly King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 of the heavenly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peak their joys abroa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peak their joys abr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 fontScale="97000"/>
          </a:bodyPr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ll of Zion yiel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ousand sacred swee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we reach the heavenly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we reach the heavenly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alk the golden street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886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alk the golden streets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autiful, beautiful Zio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upward to Zion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beautiful city of Go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2T13:43:54Z</dcterms:created>
  <dc:creator>Gary Wintergerst</dc:creator>
  <dc:description/>
  <dc:language>en-US</dc:language>
  <cp:lastModifiedBy>Gary Wintergerst</cp:lastModifiedBy>
  <cp:lastPrinted>1996-01-02T15:16:04Z</cp:lastPrinted>
  <dcterms:modified xsi:type="dcterms:W3CDTF">2002-06-19T03:41:26Z</dcterms:modified>
  <cp:revision>5</cp:revision>
  <dc:subject/>
  <dc:title>No Slide Title</dc:title>
</cp:coreProperties>
</file>