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Wi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ny Crow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with many crown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upon his thro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how the heavenly anthem drow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music but its 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wake, my soul, an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him who died for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ail him as thy matchless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lif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iumphed o'er the gra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se victorious in the str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he came to sa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glories now we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, and rose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ied, eternal life to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s that death may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pe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power a scepter s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pole to pole, that wars may cea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ll be prayer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eign shall know no 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round his pierced fee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 flowers of paradise exte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fragrance ever swee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own him the L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is hands and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se wounds, yet visible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beauty glorif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hail, Redeemer, hai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u hast died for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raise and glory shall not fai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out eter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3:57:36Z</dcterms:created>
  <dc:creator>Gary Wintergerst</dc:creator>
  <dc:description/>
  <dc:language>en-US</dc:language>
  <cp:lastModifiedBy>U</cp:lastModifiedBy>
  <cp:lastPrinted>1995-08-02T12:33:10Z</cp:lastPrinted>
  <dcterms:modified xsi:type="dcterms:W3CDTF">1997-07-24T14:25:42Z</dcterms:modified>
  <cp:revision>3</cp:revision>
  <dc:subject/>
  <dc:title>No Slide Title</dc:title>
</cp:coreProperties>
</file>