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H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k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45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leanor Farjeon, 1931 (Lam. 3:22-23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ermission David Higham Assoc.,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ning has bro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first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ackbird has spo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first bi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sing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morn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m, spring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96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sh from the W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 the rain's new f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lit from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first dewf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first gra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 the sweet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wet gar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rung in complete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is feet pa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e is the sunligh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e is the mo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 of the one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den saw pl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with e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every mo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re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new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5T21:57:22Z</dcterms:created>
  <dc:creator>Gary Wintergerst</dc:creator>
  <dc:description/>
  <dc:language>en-US</dc:language>
  <cp:lastModifiedBy>Gary Wintergerst</cp:lastModifiedBy>
  <cp:lastPrinted>1995-07-05T21:57:44Z</cp:lastPrinted>
  <dcterms:modified xsi:type="dcterms:W3CDTF">2003-06-14T15:03:34Z</dcterms:modified>
  <cp:revision>4</cp:revision>
  <dc:subject/>
  <dc:title>No Slide Title</dc:title>
</cp:coreProperties>
</file>