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While Tre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e Still In Blossom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sgar Film &amp; Bokproduk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while trees are still in blosso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ans the picking of the frui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can feel the thrill of harv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buds begin to sprou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before the dawn is brea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nticipates the su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is eager for the day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work that must be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ng before the rains were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ah went and built an ark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raham, the lonely migr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w the light beyond the dark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uplifted, tamed the wat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undivided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people of the Hebrew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und the path that made them fr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believes that God is faithful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will be what God will b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accepts the call, respo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 am willing, Lord, send m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6:15:58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8:21Z</dcterms:modified>
  <cp:revision>5</cp:revision>
  <dc:subject/>
  <dc:title>No Slide Title</dc:title>
</cp:coreProperties>
</file>