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eluya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(Alleluia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Transcr. </a:t>
            </a: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1972 The UM Publ. Ho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eluyan, heleluyan; hele, heleluya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leluyan, heleluyan; hele, heleluya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9:3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1999-11-08T02:00:53Z</dcterms:modified>
  <cp:revision>4</cp:revision>
  <dc:subject/>
  <dc:title>No Slide Title</dc:title>
</cp:coreProperties>
</file>