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Brea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Bod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2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9 John B. Foley and  North Amer. Liturgy Resour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bread, one bod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Lord of 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cup of blessing which we bles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e, though man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out the ear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one body in this one Lo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entile or Je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rvant or fr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man or man, no mo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bread, one bod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Lord of 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cup of blessing which we bles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e, though man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out the ear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one body in this one Lo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ny the gift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ny the work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in the Lord of 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bread, one bod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Lord of 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cup of blessing which we bles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e, though man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out the ear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one body in this one Lo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in for the field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cattered and grow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athered to one, for 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bread, one bod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Lord of 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cup of blessing which we bles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e, though man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out the ear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one body in this one Lo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3T08:00:28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14T02:22:37Z</dcterms:modified>
  <cp:revision>3</cp:revision>
  <dc:subject/>
  <dc:title>No Slide Title</dc:title>
</cp:coreProperties>
</file>