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Bleak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dwint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2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bleak midwinter, frosty wind made mo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th stood hard as iron, water like a st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now had fallen, snow on snow, snow on sn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bleak mid-winter, long ag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God, heaven cannot hold him, nor earth sust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and earth shall flee away when he comes to reig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bleak midwinter a stable place suffic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God Almighty, Jesus Chri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gels and archangels may have gathered t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erubim and seraphim thronged the ai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his mother only, in her maiden bli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shiped the beloved with a ki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can I give him, poor as I am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I were a shepherd, I would bring a lamb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I were a Wise Man, I would do my par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what I can I give him: give my hear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9T16:26:26Z</dcterms:created>
  <dc:creator>Gary Wintergerst</dc:creator>
  <dc:description/>
  <dc:language>en-US</dc:language>
  <cp:lastModifiedBy>U</cp:lastModifiedBy>
  <cp:lastPrinted>1995-08-30T07:48:42Z</cp:lastPrinted>
  <dcterms:modified xsi:type="dcterms:W3CDTF">1997-07-24T04:50:43Z</dcterms:modified>
  <cp:revision>2</cp:revision>
  <dc:subject/>
  <dc:title>No Slide Title</dc:title>
</cp:coreProperties>
</file>