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e N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Christma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3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e now of Christma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el, sing we her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our grateful prais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babe so de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e No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 is born, Noel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e now of Christma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e now Noel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gels called to shepher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Leave your flocks at r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urney forth to Bethlehe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nd the child so blest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e No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 is born, Noel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e now of Christma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e now Noel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Bethlehem they found hi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seph and Mary mi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ted by the mang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tching the holy chil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e No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 is born, Noel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e now of Christma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e now Noel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eastern count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me the kings af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ring gifts to Bethlehe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ided by a st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e No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 is born, Noel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e now of Christma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e now Noel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ld and myrrh they took t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fts of greatest pri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was never a stab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like parad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e No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 is born, Noel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e now of Christma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we now Noel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10T21:57:48Z</dcterms:created>
  <dc:creator>Gary Wintergerst</dc:creator>
  <dc:description/>
  <dc:language>en-US</dc:language>
  <cp:lastModifiedBy>U</cp:lastModifiedBy>
  <cp:lastPrinted>1995-08-30T07:48:42Z</cp:lastPrinted>
  <dcterms:modified xsi:type="dcterms:W3CDTF">1997-07-24T04:53:12Z</dcterms:modified>
  <cp:revision>2</cp:revision>
  <dc:subject/>
  <dc:title>No Slide Title</dc:title>
</cp:coreProperties>
</file>