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 in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dwell in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power with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 the glorious liber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orrow, fear, and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n the joyful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hall my sins consu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ld things shall be done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ings new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he witnes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I do is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ording to thy mind and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-pleasing in thy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sk no higher stat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dulge me but in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or later then transl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ine eternal bli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14:04Z</dcterms:created>
  <dc:creator>Gary Wintergerst</dc:creator>
  <dc:description/>
  <dc:language>en-US</dc:language>
  <cp:lastModifiedBy>U</cp:lastModifiedBy>
  <cp:lastPrinted>1995-08-07T15:04:32Z</cp:lastPrinted>
  <dcterms:modified xsi:type="dcterms:W3CDTF">1997-07-24T14:33:40Z</dcterms:modified>
  <cp:revision>3</cp:revision>
  <dc:subject/>
  <dc:title>No Slide Title</dc:title>
</cp:coreProperties>
</file>