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the Worl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very Corner S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93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the world in every corner sing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God and Ki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eavens are not too h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praise may thither fl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earth is not too l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's praises there may grow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the world in every corner sing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God and Ki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church with psalms must shou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 door can keep them ou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, more than all, the hear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ust bear the longest par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the world in every corner sing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y God and King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30T21:57:22Z</dcterms:created>
  <dc:creator>Gary Wintergerst</dc:creator>
  <dc:description/>
  <dc:language>en-US</dc:language>
  <cp:lastModifiedBy>U</cp:lastModifiedBy>
  <dcterms:modified xsi:type="dcterms:W3CDTF">1997-07-22T18:32:16Z</dcterms:modified>
  <cp:revision>3</cp:revision>
  <dc:subject/>
  <dc:title>No Slide Title</dc:title>
</cp:coreProperties>
</file>