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, to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'en though it be a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raise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ll my song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like the wander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un gon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rkness be ove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est a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in my dreams I'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let the way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eps unto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at thou sendest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ercy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to beckon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with my waking though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with thy pra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my stony grief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thel I'll rais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by my woes to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if, on joyful w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eaving the sk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, moon, and stars forg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ward I f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all my song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, my God,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er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8:38:0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7:12Z</dcterms:modified>
  <cp:revision>3</cp:revision>
  <dc:subject/>
  <dc:title>No Slide Title</dc:title>
</cp:coreProperties>
</file>