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 Throughou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Forty Day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26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who throughout these forty d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us didst fast and pra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ach us with thee to mourn our si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lose by thee to st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with Satan didst conte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st the victory w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ive us strength in thee to f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e to conquer si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thou didst hunger bear, and thir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teach us, gracious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die to self, and chiefly l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y most holy w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ese days of peniten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rough thy passiont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a, evermore in life and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with us abid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ide with us, that so, this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suffering over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Easter of unending jo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may attain at la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06T14:06:32Z</dcterms:created>
  <dc:creator>Gary Wintergerst</dc:creator>
  <dc:description/>
  <dc:language>en-US</dc:language>
  <cp:lastModifiedBy>U</cp:lastModifiedBy>
  <cp:lastPrinted>1995-08-30T07:48:42Z</cp:lastPrinted>
  <dcterms:modified xsi:type="dcterms:W3CDTF">1997-07-24T04:59:22Z</dcterms:modified>
  <cp:revision>2</cp:revision>
  <dc:subject/>
  <dc:title>No Slide Title</dc:title>
</cp:coreProperties>
</file>