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You Are the Seed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Sp:2; Eng:12; Sp/Eng:25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eed that will grow a new spr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a star that will shine in the n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yeast and a small grain of sa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low in the dar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dawn that will bring a new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heat that will bear golden gr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ting and a soft, gentle tou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tnesses where'er you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lame that will lighten the da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ing sparkles of hope, faith, and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hepherds to lead the whol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valleys and pastures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riends that I chose for mysel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that I want to proclai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new kingdom built on a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and truth always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 que ha de cre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trella que ha de bril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evadura, sois grano de s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orcha que debe alumbr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fe that will nurture the pla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aves in a turbulent se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's yeast is beginning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oaf of bread it will yie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place for a city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a mountain can cover its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good deeds show a world in desp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th that will lead all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semilla que ha de cre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trella que ha de brill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eed that will grow a new sprou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a star that will shine in the n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evadura, sois grano de s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orcha que debe alumbr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yeast and a small grain of sal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eacon to glow in the dar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mañana que vuelve a na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piga que empieza a gran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dawn that will bring a new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heat that will bear golden gr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aguijon y caricia a la ve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stigos que voy a envi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a sting and a soft, gentle touc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witnesses where'er you g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mañana que vuelve a nac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espiga que empieza a gran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aguijon y caricia a la vez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stigos que voy a envi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una llama que ha de enc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landores de fe y cari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lame that will lighten the dar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ing sparkles of hope, faith, and lo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pastores que han de llev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por sendas de paz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shepherds to lead the whol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valleys and pastures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amigos que quise esco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palabra que intento esparc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friends that I chose for mysel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that I want to procla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reino nuevo que empieza a engend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a, amor y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new kingdom built on a roc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justice and truth always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fuego y sabia que vine a tra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ola que agita la m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life that will nurture the plan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're the waves in a turbulent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levadura pequeña de 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rmenta la masa del 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's yeast is beginning to 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loaf of bread it will yie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ciudad no se puede esc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os montes se han de ocul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 place for a city to h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a mountain can cover its m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vuestras obras que buscan el bi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ndo al Padre 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your good deeds show a world in despai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th that will lead all to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y friends, go to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claiming love to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ssengers of my forgiving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, my friends, a loyal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dead I aros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5080" y="27432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'll be with you for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the end of the world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25146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una llama que ha de enc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landores de fe y carid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pastores que han de llev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mundo por sendas de paz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os amigos que quise escog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palabra que intento esparc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reino nuevo que empieza a engendr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ica, amor y ver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, amigos, por el mun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unciando el am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sajeros de la vid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la paz y el perd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d, amigos, mis testig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mi resurrecc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d llevando mi presenci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 vosotros est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fuego y sabia que vine a tra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is la ola que agita la m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levadura pequeña de ay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rmenta la masa del pa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a ciudad no se puede esco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os montes se han de ocult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vuestras obras que buscan el bi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mundo al Padre verá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6:12:48Z</dcterms:created>
  <dc:creator>Gary Wintergerst</dc:creator>
  <dc:description/>
  <dc:language>en-US</dc:language>
  <cp:lastModifiedBy>Gary Wintergerst</cp:lastModifiedBy>
  <cp:lastPrinted>1995-12-16T17:56:30Z</cp:lastPrinted>
  <dcterms:modified xsi:type="dcterms:W3CDTF">1999-11-14T01:04:52Z</dcterms:modified>
  <cp:revision>13</cp:revision>
  <dc:subject/>
  <dc:title>No Slide Title</dc:title>
</cp:coreProperties>
</file>