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We Thank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6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5 The Church Pension F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we thank you, for you plan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holy name within our heart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owledge and faith and life immorta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your Son to us impar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have made all for your pl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n us food for all our d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ing in Christ the bread eterna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s is the power, be yours the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 o'er your church, O Lord, in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it from evil, guard it st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 it in your love, unite it, cleans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nformed unto your wi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grain, once scattered on the hillsid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in the broken bread made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from all lands your church be gathe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your kingdom by your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6T15:27:5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56:34Z</dcterms:modified>
  <cp:revision>4</cp:revision>
  <dc:subject/>
  <dc:title>No Slide Title</dc:title>
</cp:coreProperties>
</file>