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35320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520" y="3048120"/>
            <a:ext cx="807732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Praise to Thee,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ou, O King Divine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166</a:t>
            </a:r>
            <a:br>
              <a:rPr sz="4800"/>
            </a:br>
            <a:br>
              <a:rPr sz="4800"/>
            </a:br>
            <a:br>
              <a:rPr sz="800"/>
            </a:br>
            <a:endParaRPr b="1" lang="en-US" sz="48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45720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85840" indent="0" algn="ctr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71 The Church Pension Fun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praise to thee, for thou, O King divi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idst yield the glory that of right was thi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in our darkened hearts thy grace might shine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cam'st to us, in lowliness of though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thee the outcast and the poor were sou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by thy death was God's salvation wrought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480" y="6453360"/>
            <a:ext cx="3110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this mind be in us which was in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wast a servant, that we might be fr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umbling thyself to death on Calvary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480" y="6529320"/>
            <a:ext cx="311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fore, by God's eternal purpose, thou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rt high exalted o'er all creatures n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given the name to which all knees shall bow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480" y="6453360"/>
            <a:ext cx="3110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every tongue confess with one accor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heaven and earth that Jesus Christ is Lor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God the Father be by all adored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480" y="6453360"/>
            <a:ext cx="3110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9T20:29:30Z</dcterms:created>
  <dc:creator>Gary Wintergerst</dc:creator>
  <dc:description/>
  <dc:language>en-US</dc:language>
  <cp:lastModifiedBy>Gary Wintergerst</cp:lastModifiedBy>
  <dcterms:modified xsi:type="dcterms:W3CDTF">1999-11-08T04:17:27Z</dcterms:modified>
  <cp:revision>5</cp:revision>
  <dc:subject/>
  <dc:title>All Praise to Thee, for Thou, O King Divine   UMH 166</dc:title>
</cp:coreProperties>
</file>