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Up 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6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up and bless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people of his choi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up and bless the Lord your G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eart and soul and voi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high above all pra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ove all blessing h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would not fear his holy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aud and magnify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for the living fla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his own altar brou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ouch our lips, our minds inspi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ing to heaven our though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our strength and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is salvation our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be his love in Christ proclaim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ll our ransomed powe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up and bless the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your God ado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up and bless his glorious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nceforth forever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08:47:14Z</dcterms:created>
  <dc:creator>Gary Wintergerst</dc:creator>
  <dc:description/>
  <dc:language>en-US</dc:language>
  <cp:lastModifiedBy>U</cp:lastModifiedBy>
  <cp:lastPrinted>1995-12-28T04:13:52Z</cp:lastPrinted>
  <dcterms:modified xsi:type="dcterms:W3CDTF">1997-07-24T17:31:31Z</dcterms:modified>
  <cp:revision>4</cp:revision>
  <dc:subject/>
  <dc:title>No Slide Title</dc:title>
</cp:coreProperties>
</file>