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ieve 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e True Go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8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ieve in one true Go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, Son and Holy Gh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-present help in ne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d by all the heavenly ho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hose mighty power al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s made and wrought and d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believe in Jesus Chri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 of God and Mary's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descended from his thron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or us salvation w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y whose cross and death are 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cued from sin's mise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confess the Holy Ghost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from both fore'er proceed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upholds and comforts u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all trials, fears, and need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t and Holy Trini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forever be to the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2:01:40Z</dcterms:created>
  <dc:creator>Gary Wintergerst</dc:creator>
  <dc:description/>
  <dc:language>en-US</dc:language>
  <cp:lastModifiedBy>U</cp:lastModifiedBy>
  <cp:lastPrinted>1995-08-11T16:01:02Z</cp:lastPrinted>
  <dcterms:modified xsi:type="dcterms:W3CDTF">1997-07-22T18:29:18Z</dcterms:modified>
  <cp:revision>2</cp:revision>
  <dc:subject/>
  <dc:title>No Slide Title</dc:title>
</cp:coreProperties>
</file>