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 Am,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9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1, 1983, 1989 Daniel L. Shutte and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NAL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ll rights reserved. Used w/ permis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 am,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it I, Lor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heard you calling in the n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go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lead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hold your people in m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, the Lord of sea and sk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heard my people cr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dwell in dark and s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and will sa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ho made the stars of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make their darkness br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ill bear my light to them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shall I sen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 am,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it I, Lor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heard you calling in the n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go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lead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hold your people in m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, the Lord of snow and r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borne my people's p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wept for love of th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turn aw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break their hearts of st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em hearts for love alo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speak my word to th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shall I sen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I am,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it I, Lor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heard you calling in the nigh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go,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you lead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hold your people in m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, the Lord of wind and fl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tend the poor and l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set a feast for th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and will sa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nest bread I will provid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eir hearts be satisfi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give my life to the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shall I send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9:33:5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2002-06-23T02:20:17Z</dcterms:modified>
  <cp:revision>7</cp:revision>
  <dc:subject/>
  <dc:title>No Slide Title</dc:title>
</cp:coreProperties>
</file>