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My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a heart to praise my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from sin set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that always fee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ood so freely sh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resigned, submissive,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eat Redeemer's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only Christ is hea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ak, where Jesus reign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umble, lowly, contrite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ing, true, and cl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neither life nor d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part from Christ who dwells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eart in every thought rene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ull of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and right and p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od, a copy, Lord, of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ture, gracious Lord,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quickly fro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ite thy new name up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, thy new, best name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8T21:42:32Z</dcterms:created>
  <dc:creator>Gary Wintergerst</dc:creator>
  <dc:description/>
  <dc:language>en-US</dc:language>
  <cp:lastModifiedBy>U</cp:lastModifiedBy>
  <cp:lastPrinted>1995-08-07T15:04:32Z</cp:lastPrinted>
  <dcterms:modified xsi:type="dcterms:W3CDTF">1997-07-24T15:49:34Z</dcterms:modified>
  <cp:revision>4</cp:revision>
  <dc:subject/>
  <dc:title>No Slide Title</dc:title>
</cp:coreProperties>
</file>