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idden Sour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Calm Repo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5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idden source of calm repo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ll-sufficient love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lp and refuge from my fo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cure I am if thou art m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! from sin and grief and shame I hid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in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mighty name salvation i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eeps my happy soul ab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fort it brings, and power and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oy and everlasting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e with thy dear name are gi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don and holiness and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my all in all thou 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rest in toil, my ease in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ealing of my broken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ar my peace, in loss my 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mile beneath the tyrant's fr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hame my glory and my crow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ant my plentiful supp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eakness my almighty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bonds my perfect liber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ght in Satan's darkest hou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grief my joy unspeak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ife in death, my heaven in he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9:04:58Z</dcterms:created>
  <dc:creator>Gary Wintergerst</dc:creator>
  <dc:description/>
  <dc:language>en-US</dc:language>
  <cp:lastModifiedBy>U</cp:lastModifiedBy>
  <cp:lastPrinted>1995-08-11T16:01:02Z</cp:lastPrinted>
  <dcterms:modified xsi:type="dcterms:W3CDTF">1997-07-24T00:36:58Z</dcterms:modified>
  <cp:revision>3</cp:revision>
  <dc:subject/>
  <dc:title>No Slide Title</dc:title>
</cp:coreProperties>
</file>