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lent N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N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3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lent night, holy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is calm, all is br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ound yon virgin mother and chil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infant, so tender and mi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leep in heavenly pe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leep in heavenly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lent night, holy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pherds quake at the s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es stream from heaven af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ly hosts sing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Savior is bor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Savior is bor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lent night, holy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n of God, love's pure l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adiant beams from thy holy f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dawn of redeeming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Lord, at thy bi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the Lord, at thy bi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lent night, holy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rous star, lend thy l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angels let us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 to our K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Savior is bor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Savior is bor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e Nacht, heilige Nach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s schlaft, einsam wac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ur das traute hochheilige Pa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der Knabe mit lockigem Ha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chlaf im himmlischer Ru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chlaf im himmlischer Ru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10T22:03:32Z</dcterms:created>
  <dc:creator>Gary Wintergerst</dc:creator>
  <dc:description/>
  <dc:language>en-US</dc:language>
  <cp:lastModifiedBy>U</cp:lastModifiedBy>
  <cp:lastPrinted>1995-08-30T07:48:42Z</cp:lastPrinted>
  <dcterms:modified xsi:type="dcterms:W3CDTF">1997-07-24T04:53:24Z</dcterms:modified>
  <cp:revision>2</cp:revision>
  <dc:subject/>
  <dc:title>No Slide Title</dc:title>
</cp:coreProperties>
</file>