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idd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moment draw from earth a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that lowly waits thy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my inmost soul and s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am thy love, thy God, thy all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eel thy power, to hear thy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ste thy love, be all my ch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idden love of God, whose he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depth unfathomed no one kn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from far thy beauteous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ly sigh for thy rep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is pained, nor can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rest, till it finds rest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 that thou hast brou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ind to seek its peace i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hile I seek, but find thee n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peace my wandering soul shall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en shall all my wanderings 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steps to thee-ward t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re a thing beneath the su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trives with thee my heart to sha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, tear it thence and reign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of every motion t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my heart from earth be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t hath found repose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, thy sovereign aid im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ave me from low-thoughted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se this self-will from all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its hidden mazes the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me thy duteous child that I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aseless may "Abba, Father" c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23:14Z</dcterms:created>
  <dc:creator>Gary Wintergerst</dc:creator>
  <dc:description/>
  <dc:language>en-US</dc:language>
  <cp:lastModifiedBy>U</cp:lastModifiedBy>
  <cp:lastPrinted>1996-01-02T16:42:50Z</cp:lastPrinted>
  <dcterms:modified xsi:type="dcterms:W3CDTF">1997-07-24T15:49:16Z</dcterms:modified>
  <cp:revision>5</cp:revision>
  <dc:subject/>
  <dc:title>No Slide Title</dc:title>
</cp:coreProperties>
</file>