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utiful for spacious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mber waves of g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purple mountains majest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the fruited pla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! Americ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shed his grace on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own thy g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rotherh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ea to shining se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utiful for heroes pro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berating str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more than self their country lov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rcy more than lif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! Americ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God thy gold ref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all success be noble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gain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eautiful for patriot drea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ees beyond the ye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alabaster cities gl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immed by human tear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rica! Americ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mend thine every fla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rm thy soul in self-contr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iberty in la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16:18Z</dcterms:created>
  <dc:creator>Gary Wintergerst</dc:creator>
  <dc:description/>
  <dc:language>en-US</dc:language>
  <cp:lastModifiedBy>U</cp:lastModifiedBy>
  <cp:lastPrinted>1995-12-28T04:45:40Z</cp:lastPrinted>
  <dcterms:modified xsi:type="dcterms:W3CDTF">1997-07-24T17:35:58Z</dcterms:modified>
  <cp:revision>6</cp:revision>
  <dc:subject/>
  <dc:title>No Slide Title</dc:title>
</cp:coreProperties>
</file>