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to the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to the world, the Lord is co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arth receive her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pare him ro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ven and natur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ven and natur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ven, and heaven, and nature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to the world, the Savior reign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ir songs emplo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fields and floo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cks, hills, and pl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peat the sounding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peat the sounding j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peat, repeat the sounding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let sins and sorrows g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orns infest the gr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s to m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blessings f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as the curse is f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as the curse is f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r as, far as the curse is 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ules the world with truth and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s the nations pr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ies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ighteous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onders of hi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onders of hi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onders, wonders of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3:01:02Z</dcterms:created>
  <dc:creator>Gary Wintergerst</dc:creator>
  <dc:description/>
  <dc:language>en-US</dc:language>
  <cp:lastModifiedBy>U</cp:lastModifiedBy>
  <cp:lastPrinted>1995-08-30T07:48:42Z</cp:lastPrinted>
  <dcterms:modified xsi:type="dcterms:W3CDTF">1997-07-24T04:54:56Z</dcterms:modified>
  <cp:revision>2</cp:revision>
  <dc:subject/>
  <dc:title>No Slide Title</dc:title>
</cp:coreProperties>
</file>