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ing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r Fingers Trac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10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79 The Hymn Society of Ame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eating God, your fingers t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old designs of farthest sp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sun and moon and stars and l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at lies hidden praise your m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staining God, your hands upho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's mysteries known or yet unto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water's fragile blend with ai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abling life, proclaim your ca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deeming God, your arms emb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now despised for creed or r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peace, descending like a d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 known on earth your healing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dwelling God, your gospel claim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family with a billion nam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very life be touched by g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til we praise you face to f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9T15:38:58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08T02:22:10Z</dcterms:modified>
  <cp:revision>4</cp:revision>
  <dc:subject/>
  <dc:title>No Slide Title</dc:title>
</cp:coreProperties>
</file>