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4896000"/>
            <a:ext cx="709560" cy="101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jesty, Worship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Majest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76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1 Rocksmith Mus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jesty, worship his majest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o Jesus be all glory, honor, and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jesty, kingdom authori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w from his throne unto his own; his anthem 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exalt, lift up on high the name of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gnify, come glorify Christ Jesus, the K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jesty, worship his majes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who died, now glorified, King of all k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3T20:59:38Z</dcterms:created>
  <dc:creator>Gary Wintergerst</dc:creator>
  <dc:description/>
  <dc:language>en-US</dc:language>
  <cp:lastModifiedBy>Gary Wintergerst</cp:lastModifiedBy>
  <cp:lastPrinted>1995-07-13T20:54:50Z</cp:lastPrinted>
  <dcterms:modified xsi:type="dcterms:W3CDTF">1999-11-08T04:21:43Z</dcterms:modified>
  <cp:revision>4</cp:revision>
  <dc:subject/>
  <dc:title>No Slide Title</dc:title>
</cp:coreProperties>
</file>