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appy Day, T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ed My Choi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 rejoicing ever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rest, my long-divided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xed on this blissful center, r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have I found a nobler p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heavenly pleasures fill my brea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aught me how to watch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 rejoicing ever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heaven, that heard the solemn v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vow renewed shall daily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n life's latest hour I b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 in death a bond so d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aught me how to watch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 rejoicing ever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appy day, that fixed my cho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e, my Savior and my G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 may this glowing heart rej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ell its raptures all abro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aught me how to watch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 rejoicing ever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appy bond, that seals my vo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m who merits all my lov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cheerful anthems fill his hou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o that sacred shrine I m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aught me how to watch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 rejoicing every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done: the great transaction's do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Lord's and he is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drew me and I followed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rmed to confess the voice div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ppy day, happy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ashed my sins aw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aught me how to watch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4:57:54Z</dcterms:created>
  <dc:creator>Gary Wintergerst</dc:creator>
  <dc:description/>
  <dc:language>en-US</dc:language>
  <cp:lastModifiedBy>U</cp:lastModifiedBy>
  <cp:lastPrinted>1995-08-07T15:04:32Z</cp:lastPrinted>
  <dcterms:modified xsi:type="dcterms:W3CDTF">1997-07-24T14:34:08Z</dcterms:modified>
  <cp:revision>2</cp:revision>
  <dc:subject/>
  <dc:title>No Slide Title</dc:title>
</cp:coreProperties>
</file>