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6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! Shout Hosann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lebrate this day of day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! Hush in wond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creation is amaz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desert all surrou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, a spreading tree has gr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ling leaves of grace abound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a taste of love unkn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! Raise your spiri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averns of despai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lk with gladness in the morn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what love can do and dar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the wine of resurrec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 servant, but a frie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is our strong compan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 and peace shall never e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! Earth and heav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more shall be the s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eak the bread of new creati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 world is still in p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its grim, demonic chorus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Christ is risen! Get you gone!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First and Last is with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Hosanna everyo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2T21:48:4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2T22:33:55Z</dcterms:modified>
  <cp:revision>4</cp:revision>
  <dc:subject/>
  <dc:title>No Slide Title</dc:title>
</cp:coreProperties>
</file>