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Keep Me Ne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keep me near the cr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a precious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ee to all, a healing strea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s from Calvary's mounta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cross, a trembling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mercy found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the bright and morning sta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eds its beams around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cross! O Lamb of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ng its scenes before 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me walk from day to d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its shadow o'er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ar the cross I'll watch and wa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ing, trusting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I reach the golden str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ust beyond the riv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, in the cr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 my glory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my raptured soul shall fi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t beyond the ri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03:08Z</dcterms:created>
  <dc:creator>Gary Wintergerst</dc:creator>
  <dc:description/>
  <dc:language>en-US</dc:language>
  <cp:lastModifiedBy>U</cp:lastModifiedBy>
  <cp:lastPrinted>1995-08-11T16:01:02Z</cp:lastPrinted>
  <dcterms:modified xsi:type="dcterms:W3CDTF">1997-07-24T14:21:58Z</dcterms:modified>
  <cp:revision>3</cp:revision>
  <dc:subject/>
  <dc:title>No Slide Title</dc:title>
</cp:coreProperties>
</file>