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 Spirit, Co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nfirm U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31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71 Faber Music, Ltd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 Spirit, come, confirm u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truth that Christ makes know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have faith and understand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your helping gifts alo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 Spirit, come, console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as advocate to plea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ing Spirit from the Fath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nt in Christ the help we ne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 Spirit, come, renew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yourself to make us liv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 through your loving presen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 through the gifts you gi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 Spirit, come, possess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the love of Three in O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 Spirit of the Fath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 Spirit of the S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9-28T16:20:20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12T22:44:11Z</dcterms:modified>
  <cp:revision>4</cp:revision>
  <dc:subject/>
  <dc:title>No Slide Title</dc:title>
</cp:coreProperties>
</file>