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Jo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riends Ab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join our friends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ve obtained the priz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 the eagle wings of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oys celestial r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aints on earth unite to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se to glory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the servants of our 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rth and heaven are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amily we dwell in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hurch above, ben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now divided by the str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arrow stream of d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army of the living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s command we b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t of his host have crossed the f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art are crossing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n thousand to their endless h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olemn moment f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are to the margin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expect to di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now by faith we join our h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ose that went bef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eet the blood-besprinkled ba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eternal sh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pirits too shall quickly jo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irs with glory crow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ut to see our Captain's s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ar this trumpet s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we now might grasp our Guid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the word were giv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ord of Hosts, the waves div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nd us all in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23:06Z</dcterms:created>
  <dc:creator>Gary Wintergerst</dc:creator>
  <dc:description/>
  <dc:language>en-US</dc:language>
  <cp:lastModifiedBy>U</cp:lastModifiedBy>
  <cp:lastPrinted>1996-01-02T14:03:40Z</cp:lastPrinted>
  <dcterms:modified xsi:type="dcterms:W3CDTF">1997-07-24T17:50:14Z</dcterms:modified>
  <cp:revision>4</cp:revision>
  <dc:subject/>
  <dc:title>No Slide Title</dc:title>
</cp:coreProperties>
</file>