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e Wi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Fea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o the winds thy f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be undismay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ears thy sighs and counts thy t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all lift up thy h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waves and clouds and stor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gently clears thy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 thou God's time; so shall this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end in joyou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o God's sovereign s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oose and to comm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t thou, wondering, own that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ise, how strong this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in life, in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teadfast truth decl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blish with our latest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 and guardian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30T16:45:32Z</dcterms:created>
  <dc:creator>Gary Wintergerst</dc:creator>
  <dc:description/>
  <dc:language>en-US</dc:language>
  <cp:lastModifiedBy>U</cp:lastModifiedBy>
  <cp:lastPrinted>1995-08-11T16:01:02Z</cp:lastPrinted>
  <dcterms:modified xsi:type="dcterms:W3CDTF">1997-07-24T00:31:18Z</dcterms:modified>
  <cp:revision>3</cp:revision>
  <dc:subject/>
  <dc:title>No Slide Title</dc:title>
</cp:coreProperties>
</file>