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ow Gre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Flame Aspir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4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ow great a flame aspi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led by a spark of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love the nations fi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s the kingdoms on a blaz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ring fire on earth he c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indled in some hearts it i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all might catch the f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artake the glorious bliss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 first the work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mall and feeble was his 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e Word doth swiftly r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wins its widening 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and more it spreads and gr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mighty to prevai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's strongholds it now o'erthro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kes the trembling gates of he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 of God, your Savior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he door hath opened w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hath given the word of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' word is glorifi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ighty to redee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alone the work hath wrou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thy is the work of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m who spake a world from nau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w ye not the cloud a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ttle as a human han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it spreads along the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ngs o'er all the thirsty la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! the promise of a sho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ops already from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 Lord will shortly p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spirit of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33:40Z</dcterms:created>
  <dc:creator>Gary Wintergerst</dc:creator>
  <dc:description/>
  <dc:language>en-US</dc:language>
  <cp:lastModifiedBy>U</cp:lastModifiedBy>
  <cp:lastPrinted>1995-08-07T15:04:32Z</cp:lastPrinted>
  <dcterms:modified xsi:type="dcterms:W3CDTF">1997-07-24T16:39:52Z</dcterms:modified>
  <cp:revision>3</cp:revision>
  <dc:subject/>
  <dc:title>No Slide Title</dc:title>
</cp:coreProperties>
</file>