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Is 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the Lord is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rd and King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tals, give thanks and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iumph 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;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the Savior re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truth and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had purged our st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ok his seat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;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cannot fai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ules o'er earth and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eys of earth and h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to our Jesus gi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; rejoice; again I say,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 in glorious hop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the Judge shall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 his servants up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ir eternal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oon shall h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'archangel's voice; the trump of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sound, rejoic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38:04Z</dcterms:created>
  <dc:creator>Gary Wintergerst</dc:creator>
  <dc:description/>
  <dc:language>en-US</dc:language>
  <cp:lastModifiedBy>U</cp:lastModifiedBy>
  <cp:lastPrinted>1996-01-02T14:06:50Z</cp:lastPrinted>
  <dcterms:modified xsi:type="dcterms:W3CDTF">1997-07-24T17:51:28Z</dcterms:modified>
  <cp:revision>4</cp:revision>
  <dc:subject/>
  <dc:title>No Slide Title</dc:title>
</cp:coreProperties>
</file>