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Our Confiden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shak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0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1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our confidence is shak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beliefs we thought secu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spirit in its sickn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ks but cannot find a cu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active in the tension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a faith not yet matu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lar systems, void of mea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eeze the spirit into sto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ways our researches lead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ultimate unknow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 must die, or come full circl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its source in God al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discipline of pray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t's hardest to belie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drudgery of ca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t's not enough to grie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th, maturing, learns acceptan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insights we recei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love, and thus redeems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Christ we crucif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is God's eternal answ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world's eternal wh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we in this faith matur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content to live and di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5T14:54:16Z</dcterms:created>
  <dc:creator>Gary Wintergerst</dc:creator>
  <dc:description/>
  <dc:language>en-US</dc:language>
  <cp:lastModifiedBy>Gary Wintergerst</cp:lastModifiedBy>
  <cp:lastPrinted>1995-08-07T15:04:32Z</cp:lastPrinted>
  <dcterms:modified xsi:type="dcterms:W3CDTF">1999-11-14T00:35:07Z</dcterms:modified>
  <cp:revision>4</cp:revision>
  <dc:subject/>
  <dc:title>No Slide Title</dc:title>
</cp:coreProperties>
</file>