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Child So Lovely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Arial"/>
              </a:rPr>
              <a:t>(Sp:2; Eng:10; Sp/Eng:18 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heaven's beau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's pur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my devo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my affec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all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life, my dar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ul, as w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at I o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 joyous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at your f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tender ba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child, adio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sweet belo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sweet belov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child, a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a tu hermosur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e tu can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alma me rob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alma me rob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have heaven's beau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's pur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my devo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my affec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roba el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aling all my sou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35268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vida, bien mí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alma tambié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zco, gusto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zco, gusto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life, my dar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oul, as w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at I o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 joyousl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ido a tus p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at your f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5080" y="335268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tierno inf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niño, adió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dulce am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dulce, amant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tender ba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child, adio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sweet belo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sweet beloved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niño, adió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os, child, adio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a tu hermosur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e tu cand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alma me rob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alma me rob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 roba el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my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here I kneel befor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ild so lovely, you are Christ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32767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vida, bien mí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el alma tambié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zco, gusto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ofrezco, gusto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ido a tus p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tierno inf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niño, adió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dulce am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dulce, ama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iós, niño, adió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ante ti me rind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ño lindo, eres tú mi Dio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57:1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53:36Z</dcterms:modified>
  <cp:revision>3</cp:revision>
  <dc:subject/>
  <dc:title>No Slide Title</dc:title>
</cp:coreProperties>
</file>