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Us Accep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ch Oth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6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5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us accept each oth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Christ accepted 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ach us as sister, bro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ch person to embr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present, Lord, among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ring us to belie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ourselves accept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eant to love and l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ach us, O Lord, your lesso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in our daily lif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truggle to be huma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earch for hope and fait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ach us to care for peop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ll, not just for s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love them as we find the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as they may be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your acceptance change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that we may be mov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living situation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do the truth in l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practice your acceptan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il we know by hear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able of forgiven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aughter's healing 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for today's encounter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all who are in ne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hunger for acceptan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righteousness and br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need new eyes for see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w hands for holding 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new us with your Spiri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free us, make us on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5T16:11:0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14T00:55:31Z</dcterms:modified>
  <cp:revision>4</cp:revision>
  <dc:subject/>
  <dc:title>No Slide Title</dc:title>
</cp:coreProperties>
</file>