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growing old and fee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m growing old and fee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life becomes a bu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'm nearing chilly Jord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ou Lily of the Vall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orms of life are ra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torms of life are ra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world is tossing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ke a ship upon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rulest wind and wat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tribul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host of hell ass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strength begins to fa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never lost a batt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faults and failu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faults and failu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've done the best I c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y friends misunderst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knowest all about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persecu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midst of persecu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my foes in war arr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ertake to stop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who saved Paul and Sil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b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8:38:24Z</dcterms:created>
  <dc:creator>Gary Wintergerst</dc:creator>
  <dc:description/>
  <dc:language>en-US</dc:language>
  <cp:lastModifiedBy>U</cp:lastModifiedBy>
  <cp:lastPrinted>1995-08-07T15:04:32Z</cp:lastPrinted>
  <dcterms:modified xsi:type="dcterms:W3CDTF">1997-07-24T16:34:42Z</dcterms:modified>
  <cp:revision>2</cp:revision>
  <dc:subject/>
  <dc:title>No Slide Title</dc:title>
</cp:coreProperties>
</file>