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Shall 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day earth shall 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ong children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Lord, Christ our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n earth to sav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the Father g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he doom, ours the m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came down to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thlehem saw his bi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x and ass beside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old would hide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bright star, o'er his 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e Men three to him l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 they low by his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y their gifts bef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him and adore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day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ir song earth shall 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Christ, heaven'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n earth to sav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and love he g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eo-o-o, ideo-o-o, ide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11:1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5:22Z</dcterms:modified>
  <cp:revision>2</cp:revision>
  <dc:subject/>
  <dc:title>No Slide Title</dc:title>
</cp:coreProperties>
</file>