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3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, don't you mo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, don't you mou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haraoh's army got drow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of these mornings bright and f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in'a take my wings and cleave the ai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haraoh's army got drow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, don't you mo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, don't you mou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haraoh's army got drow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get to heaven goin'a sing and shou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in't nobody there goin'a turn me ou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haraoh's army got drow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, don't you mo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, don't you mou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haraoh's army got drow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get to heaven goin'a put on my sho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in'a run about and spread the new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haraoh's army got drow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, don't you mo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, don't you mou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haraoh's army got drow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get to heaven goin'a sing and shou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in't nobody there goin'a turn me ou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haraoh's army got drow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ry, don't you weep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16:48:06Z</dcterms:created>
  <dc:creator>Gary Wintergerst</dc:creator>
  <dc:description/>
  <dc:language>en-US</dc:language>
  <cp:lastModifiedBy>U</cp:lastModifiedBy>
  <cp:lastPrinted>1995-08-11T16:01:02Z</cp:lastPrinted>
  <dcterms:modified xsi:type="dcterms:W3CDTF">1997-07-24T00:33:15Z</dcterms:modified>
  <cp:revision>4</cp:revision>
  <dc:subject/>
  <dc:title>No Slide Title</dc:title>
</cp:coreProperties>
</file>