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Divine, W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t Thou Don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ve divine, what hast thou d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immortal God hath died for 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's co-eternal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e all my sins upon the t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'immortal God for me hath di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my Love, is crucifi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crucified for me and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bring us rebels back to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lieve, believe the record tr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all are bought with Jesus' blo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ardon for all flows from his sid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my Love, is crucifi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hold him, all ye that pass b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leeding Prince of life and pea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sinners, see your Savior di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ay, "Was ever grief like his?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feel with me his blood applie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Lord, my Love, is crucifie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7:15:42Z</dcterms:created>
  <dc:creator>Gary Wintergerst</dc:creator>
  <dc:description/>
  <dc:language>en-US</dc:language>
  <cp:lastModifiedBy>U</cp:lastModifiedBy>
  <cp:lastPrinted>1995-08-30T07:48:42Z</cp:lastPrinted>
  <dcterms:modified xsi:type="dcterms:W3CDTF">1997-07-24T05:02:40Z</dcterms:modified>
  <cp:revision>2</cp:revision>
  <dc:subject/>
  <dc:title>No Slide Title</dc:title>
</cp:coreProperties>
</file>