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peace, like a river, attendeth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orrows like sea billows 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my lot, thou hast taught me to s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atan should buffet, though trials should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blest assurance contr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hrist has regarded my helpless est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th shed his own blood for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in, oh, the bliss of this glorious thou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in, not in part but the who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ailed to the cross, and I bear it no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O my sou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Lord, haste the day when my faith shall be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louds be rolled back as a scro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ump shall resound, and the Lord shall desc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 so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 with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well, it is well with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29:08Z</dcterms:created>
  <dc:creator>Gary Wintergerst</dc:creator>
  <dc:description/>
  <dc:language>en-US</dc:language>
  <cp:lastModifiedBy>U</cp:lastModifiedBy>
  <cp:lastPrinted>1995-08-07T15:04:32Z</cp:lastPrinted>
  <dcterms:modified xsi:type="dcterms:W3CDTF">1997-07-24T14:32:18Z</dcterms:modified>
  <cp:revision>4</cp:revision>
  <dc:subject>UMH</dc:subject>
  <dc:title>It Is Well With My Soul</dc:title>
</cp:coreProperties>
</file>