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Prayer Ris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eav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9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 God, you are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justice and truth; all your judgments are ju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 God, you are tru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yond compare. Lord, in you do I tru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prayer rises to heaven, to the mystery of God's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smoke ascends when the precious incense burn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mercy on us, Lord, and grant us your gr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voice glorifies the Lord God of majes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night bird sings at the dawning of the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my offering to God, the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thirsty earth looks to hea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lifegiving rain to save flower and t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I raise my hands high in prayer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fend me from all people who try to harm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prayer rises to heaven, to the mystery of God's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smoke ascends when the precious incense burn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mercy on us, Lord, and grant us your gr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voice glorifies the Lord God of majes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night bird sings at the dawning of the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my offering to God, the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 God, how I wis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 could live with you for the rest of my lif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welling in your house I would fee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sured that my prayers would be always in your s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prayer rises to heaven, to the mystery of God's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smoke ascends when the precious incense burn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mercy on us, Lord, and grant us your gr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voice glorifies the Lord God of majes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night bird sings at the dawning of the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my offering to God, the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7:46:38Z</dcterms:created>
  <dc:creator>Gary Wintergerst</dc:creator>
  <dc:description/>
  <dc:language>en-US</dc:language>
  <cp:lastModifiedBy>U</cp:lastModifiedBy>
  <cp:lastPrinted>1995-08-07T15:04:32Z</cp:lastPrinted>
  <dcterms:modified xsi:type="dcterms:W3CDTF">1997-07-24T16:08:36Z</dcterms:modified>
  <cp:revision>3</cp:revision>
  <dc:subject/>
  <dc:title>No Slide Title</dc:title>
</cp:coreProperties>
</file>