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s of Lif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60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them over again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more of their beauty s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s of life and beau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me faith and dut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 words, wonderful wor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. Beautiful words, wonderful wor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the blessed one, gives to 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ner, list to the loving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so freely gi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oing us to hea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 words, wonderful wor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. Beautiful words, wonderful wor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weetly echo the gospel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fer pardon and peace to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nly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ctify forev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 words, wonderful wor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. Beautiful words, wonderful wor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erful words of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07:40:18Z</dcterms:created>
  <dc:creator>Gary Wintergerst</dc:creator>
  <dc:description/>
  <dc:language>en-US</dc:language>
  <cp:lastModifiedBy>U</cp:lastModifiedBy>
  <cp:lastPrinted>1995-08-11T16:01:02Z</cp:lastPrinted>
  <dcterms:modified xsi:type="dcterms:W3CDTF">1997-07-24T17:17:50Z</dcterms:modified>
  <cp:revision>3</cp:revision>
  <dc:subject/>
  <dc:title>No Slide Title</dc:title>
</cp:coreProperties>
</file>