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way in a Manger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217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way in a manger, no crib for a be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little Lord Jesus laid down his sweet head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stars in the sky looked down where he la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little Lord Jesus, asleep on the ha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cattle are lowing, the baby awake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ut little Lord Jesus, no crying he makes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love thee, Lord Jesus, look down from the sky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stay by my cradle till morning is nigh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e near me, Lord Jesus, I ask thee to stay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lose by me forever, and love me, I pray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less all the dear children in thy tender car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fit us for heaven to live with thee ther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2-09T16:10:08Z</dcterms:created>
  <dc:creator>Gary Wintergerst</dc:creator>
  <dc:description/>
  <dc:language>en-US</dc:language>
  <cp:lastModifiedBy>U</cp:lastModifiedBy>
  <cp:lastPrinted>1995-08-30T07:48:42Z</cp:lastPrinted>
  <dcterms:modified xsi:type="dcterms:W3CDTF">1997-07-24T04:50:02Z</dcterms:modified>
  <cp:revision>2</cp:revision>
  <dc:subject/>
  <dc:title>No Slide Title</dc:title>
</cp:coreProperties>
</file>