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the Churc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5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2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the churc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churc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the church togethe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ho follow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around the worl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we're the church togethe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t Pentecost some peopl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ceived the Holy Spiri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ld the Good News through the worl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all who would hear i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the churc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churc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the church togethe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ho follow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around the worl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we're the church togethe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the churc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churc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the church togethe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ho follow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around the worl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we're the church togethe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hurch is not a buil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hurch is not a steep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hurch is not a resting pl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hurch is a peop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the churc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churc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the church togethe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ho follow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around the worl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we're the church togethe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re many kinds of peop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many kinds of fac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colors and all ages, to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all times and plac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the churc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churc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the church togethe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ho follow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around the worl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we're the church togethe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times the church is march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times it's bravely bur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times it's riding, sometimes hi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ways it's learn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am the churc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re the churc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the church togethe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ho follow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around the worl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, we're the church togethe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en the people g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singing and there's pray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s laughing and there's crying sometim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f it saying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5T15:59:48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14T00:54:17Z</dcterms:modified>
  <cp:revision>4</cp:revision>
  <dc:subject/>
  <dc:title>No Slide Title</dc:title>
</cp:coreProperties>
</file>