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Isra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God of Israel, who comes to set u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visits and redeems us, and grants us liber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phets spoke of mercy, of freedom and rel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fulfill the promise to bring our people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from the house of David a child of grace i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avior comes among us to raise us up to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m goes the herald, forerunner in the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phet of salvation, the harbinger of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prisoners of darkness the sun begins to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wning of forgiveness upon the sinner's ey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 the feet of pilgrims along the paths of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less our God and Savior with songs that never cea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35:0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42:15Z</dcterms:modified>
  <cp:revision>3</cp:revision>
  <dc:subject/>
  <dc:title>No Slide Title</dc:title>
</cp:coreProperties>
</file>