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Me the Fait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ch Can Remov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50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me the faith which can remo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ink the mountain to a plai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me the childlike praying l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ch longs to build thy house agai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love, let it my heart o'er-pow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all my simple soul devou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ould the precious time redee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longer live for this alo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spend and to be spent for them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have not yet my Savior know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ully on these my mission pr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only breathe, to breathe thy l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talents, gifts, and graces,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to thy blessed hands receiv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let me live to preach thy w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let me to thy glory liv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every sacred moment spen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publishing the sinner's Frie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large, inflame, and fill my hear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boundless charity divi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shall I all my strength exer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love them with a zeal like thi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lead them to thy open sid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heep for whom the Shepherd di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6T08:07:24Z</dcterms:created>
  <dc:creator>Gary Wintergerst</dc:creator>
  <dc:description/>
  <dc:language>en-US</dc:language>
  <cp:lastModifiedBy>U</cp:lastModifiedBy>
  <cp:lastPrinted>1995-12-27T02:01:34Z</cp:lastPrinted>
  <dcterms:modified xsi:type="dcterms:W3CDTF">1997-07-24T17:30:04Z</dcterms:modified>
  <cp:revision>4</cp:revision>
  <dc:subject/>
  <dc:title>No Slide Title</dc:title>
</cp:coreProperties>
</file>