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ock of Ag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left for 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6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ock of Ages, cleft for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me hide myself in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 water and the blo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hy wounded side which flow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of sin the double cu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ve from wrath and make me pu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 the labors of my hand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n fulfill thy law's demand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uld my zeal no respite kn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uld my tears forever fl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for sin could not ato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must save, and thou al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hing in my hand I br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mply to the cross I cl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aked, come to thee for dres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lpless, look to thee for gra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ul, I to the fountain fl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sh me, Savior, or I di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I draw this fleeting brea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mine eyes shall close in dea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I soar to worlds unknow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 thee on thy judgment thr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ock of Ages, cleft for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me hide myself in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03T16:57:48Z</dcterms:created>
  <dc:creator>Gary Wintergerst</dc:creator>
  <dc:description/>
  <dc:language>en-US</dc:language>
  <cp:lastModifiedBy>U</cp:lastModifiedBy>
  <cp:lastPrinted>1995-08-02T14:38:38Z</cp:lastPrinted>
  <dcterms:modified xsi:type="dcterms:W3CDTF">1997-07-24T14:30:20Z</dcterms:modified>
  <cp:revision>3</cp:revision>
  <dc:subject/>
  <dc:title>No Slide Title</dc:title>
</cp:coreProperties>
</file>