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Faith Look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5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faith looks up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amb of Calv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 divi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hear me while I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all my guilt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from thi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wholly th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y rich grace im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to my fainting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zeal inspi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hast died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my love to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, warm, and changeless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iving fi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life's dark maze I t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iefs around me sp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my gu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d darkness turn to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pe sorrow's tear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let me ever st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e a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ends life's transient dr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eath's cold, sullen str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o'er me ro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Savior, then in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and distrust re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ar me safe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ansomed sou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3T20:18:16Z</dcterms:created>
  <dc:creator>Gary Wintergerst</dc:creator>
  <dc:description/>
  <dc:language>en-US</dc:language>
  <cp:lastModifiedBy>U</cp:lastModifiedBy>
  <cp:lastPrinted>1995-08-11T16:01:02Z</cp:lastPrinted>
  <dcterms:modified xsi:type="dcterms:W3CDTF">1997-07-24T15:56:59Z</dcterms:modified>
  <cp:revision>4</cp:revision>
  <dc:subject/>
  <dc:title>No Slide Title</dc:title>
</cp:coreProperties>
</file>