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Thine, O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1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thine, O Lord, I have heard thy vo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t told thy love to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I long to rise in the arms of fai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e closer drawn to th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aw me nearer, nearer, blessed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cross where thou hast di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aw me nearer, nearer, nearer, blessed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y precious, bleeding si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secrate me now to thy service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e power of grace div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y soul look up with a steadfast hop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y will be lost in thi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aw me nearer, nearer, blessed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cross where thou hast di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aw me nearer, nearer, nearer, blessed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y precious, bleeding si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e pure delight of a single hou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before thy throne I spe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kneel in prayer, and with thee, my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commune as friend with frien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aw me nearer, nearer, blessed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cross where thou hast di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aw me nearer, nearer, nearer, blessed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y precious, bleeding si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are depths of love that I cannot kn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I cross the narrow se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are heights of joy that I may not reac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I rest in peace with th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aw me nearer, nearer, blessed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cross where thou hast di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aw me nearer, nearer, nearer, blessed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y precious, bleeding si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8T21:49:44Z</dcterms:created>
  <dc:creator>Gary Wintergerst</dc:creator>
  <dc:description/>
  <dc:language>en-US</dc:language>
  <cp:lastModifiedBy>U</cp:lastModifiedBy>
  <cp:lastPrinted>1995-08-07T15:04:32Z</cp:lastPrinted>
  <dcterms:modified xsi:type="dcterms:W3CDTF">1997-07-24T15:49:46Z</dcterms:modified>
  <cp:revision>3</cp:revision>
  <dc:subject/>
  <dc:title>No Slide Title</dc:title>
</cp:coreProperties>
</file>