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, How Dee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, how deep, how broad, how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fills the heart with ecstas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God, the Son of God, should t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mortal form for mortals' sak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baptized, for us he b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oly fast and hungered s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emptation sharp he k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he tempter over thr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prayed; for us he ta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is daily works he wr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ords and signs and actions th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seeking not himself, but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o evil power bet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ourged, mocked, in purple robe arr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ore the shameful cross and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gave up his dying br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rose from death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went on high to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he sent his Spirit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, to strengthen, and to che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our Lord and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ove so deep, so high, so broa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inity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and for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4:4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9:10Z</dcterms:modified>
  <cp:revision>2</cp:revision>
  <dc:subject/>
  <dc:title>No Slide Title</dc:title>
</cp:coreProperties>
</file>