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, O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O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ou the pr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make on bended kn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earnest plea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, O Christ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earthly joy I cra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ght peace and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e alone I s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what is b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all my prayer shall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, O Christ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orrow do its wor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grief and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are thy messeng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their ref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y can sing with 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, O Christ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my latest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sper thy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be the parting c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shall 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till its prayer shall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, O Christ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lov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16:18Z</dcterms:created>
  <dc:creator>Gary Wintergerst</dc:creator>
  <dc:description/>
  <dc:language>en-US</dc:language>
  <cp:lastModifiedBy>U</cp:lastModifiedBy>
  <cp:lastPrinted>1996-01-03T12:49:56Z</cp:lastPrinted>
  <dcterms:modified xsi:type="dcterms:W3CDTF">1997-07-24T15:57:06Z</dcterms:modified>
  <cp:revision>5</cp:revision>
  <dc:subject/>
  <dc:title>No Slide Title</dc:title>
</cp:coreProperties>
</file>