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to Dark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ethsema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9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 to dark Gethsema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that feel the tempter's pow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Redeemer's conflict s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tch with him one bitter hou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not from his griefs aw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rn of Jesus Christ to pr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 him at the judgment h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ten, bound, reviled, arraign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wormwood and the gall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the pangs his soul sustain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un not suffering, shame, or lo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rn of Christ to bear the cro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vary's mournful mountain climb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, adoring at his fee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k that miracle of ti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own sacrifice complet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"It is finished!" hear him c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rn of Jesus Christ to di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ly hasten to the tomb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re they laid his breathless cla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s solitude and gloom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has taken him aw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is risen! He meets our ey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teach us so to r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23:26Z</dcterms:created>
  <dc:creator>Gary Wintergerst</dc:creator>
  <dc:description/>
  <dc:language>en-US</dc:language>
  <cp:lastModifiedBy>U</cp:lastModifiedBy>
  <cp:lastPrinted>1995-08-30T07:48:42Z</cp:lastPrinted>
  <dcterms:modified xsi:type="dcterms:W3CDTF">1997-07-24T05:03:12Z</dcterms:modified>
  <cp:revision>2</cp:revision>
  <dc:subject/>
  <dc:title>No Slide Title</dc:title>
</cp:coreProperties>
</file>