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8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Eng:7; Sp/Eng:11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9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has chosen those who are hu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will strengthen the people with m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re de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der de ejércit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er of her arm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1040" y="3505320"/>
            <a:ext cx="85219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 un himno a tu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hymn of victory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1040" y="3505320"/>
            <a:ext cx="85978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, él escoge a los humild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has chosen those who are hu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7360" y="342900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. Él los fortalece con su po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will strengthen the people with m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7360" y="342900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s los que cant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cen hoy sus vo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up our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one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35053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n un himno de lo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the triumphs of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1040" y="35053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. Él los fortalece con su po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will strengthen the people with m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7360" y="3429000"/>
            <a:ext cx="85215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dre de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ider de ejércit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 un himno a tu Señ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, él escoge a los humild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. Él los fortalece con su po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Canta, Dé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dos los que canta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cen hoy sus vo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en un himno de loor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, él escoge a los humild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que bueno es Dio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eno es Dios. Él los fortalece con su poder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 of Israe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ader of her armi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 a hymn of victory to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has chosen those who are humbl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our God is goo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ood, and will strengthen the people with migh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anta, Debora, cant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 lift up our voice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one togeth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nging the triumphs of our Go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46:3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05:09Z</dcterms:modified>
  <cp:revision>7</cp:revision>
  <dc:subject/>
  <dc:title>No Slide Title</dc:title>
</cp:coreProperties>
</file>