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 Maid Engag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Josep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1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4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 maid engaged to Joseph, the angel Gabriel c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Fear not," the angel told her, "I come to bring good new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od news I come to tell you, good news, I say, good news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For you are highly favored by God the Lord of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even now is with you. You are on earth most bl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most blest, most blessed, God chose you, you are blest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Mary was most troubled to hear the angel's w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was the angel saying? It troubled her to h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ear the angel's message, it troubled her to h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Fear not, for God is with you, and you shall bear a chi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 shall be called Jesus, God's offspring from on hig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shall reign forever, forever reign on high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How shall this be?" said Mary, "I am not yet a wife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ngel answered quickly, "The power of the Most Hig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come upon you shortly, your child will be God's child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Mary heard the angel, she wondered at his word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Behold, I am your handmaid," she said unto he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So be it; I am ready according to your word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8T09:01:40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08T04:50:05Z</dcterms:modified>
  <cp:revision>3</cp:revision>
  <dc:subject/>
  <dc:title>No Slide Title</dc:title>
</cp:coreProperties>
</file>