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79f"/>
                </a:solidFill>
                <a:latin typeface="Arial"/>
              </a:rPr>
              <a:t>(Sp:2; Sp/Eng:7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Reginald Heber, 1826; Trans. By Juan Bautista Cabrera (Rev. 4:8-11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se post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ñada de tu lu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que has si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res y s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herubim and seraphim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falling down before the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ich wert and art, an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verymore shalt b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más que estés v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impossible se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loria contempl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Though the darkness hide thee,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ts val="58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though the eye of sinful ma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y glory may not s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tú eres só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nada hay a tu l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poder perfec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ca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nly thou art holy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re is none besid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erfect in power, i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and pur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1040" y="3505320"/>
            <a:ext cx="86742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loria de tu no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mos en tus obr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    All thy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s shall praise thy nam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n earth and sky and sea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5080" y="3505320"/>
            <a:ext cx="867384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ará todo ho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900640" y="65311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5080" y="350532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omnipot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empre el labio m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res te dará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rever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inmensa muchedu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ángeles que cumpl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santa volun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se postra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añada de tu lu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te ti que has si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que eres y será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or más que estés velad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 impossible sea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gloria contempl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anto tú eres sól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y nada hay a tu lad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poder perfecto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pureza y car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gloria de tu no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vemos en tus obra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n cielo, tierra y mar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ará todo hombr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68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36440" rIns="13644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eñor omnipot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siempre el labio mio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ores te dará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rd God Almigh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Early in the morning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ur songs shall rise to the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36440" rIns="136440" tIns="457200" bIns="457200" anchor="t">
            <a:normAutofit fontScale="95000"/>
          </a:bodyPr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e adoro reverent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ios en tres persona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ndita Trinid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erciful and mighty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God in three persons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Trinit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82468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5080" y="3429000"/>
            <a:ext cx="875016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5000"/>
          </a:bodyPr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¡Santo! ¡Santo! ¡Santo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a inmensa muchedumbre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de ángeles que cumplen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u santa volunt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Holy, holy, holy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ll the saints adore thee,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ts val="58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Casting down their golden crown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51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round the glassy sea;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00640" y="645480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279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760" y="3505320"/>
            <a:ext cx="882648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279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23:5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1-06-22T23:19:13Z</dcterms:modified>
  <cp:revision>5</cp:revision>
  <dc:subject/>
  <dc:title>No Slide Title</dc:title>
</cp:coreProperties>
</file>