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the Lord who now is pres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to One who is at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icked cease from s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ildoers change their m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sinful God has pity; those returning God forg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what the Lord is sa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world that disbeliev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Judge me not by human standard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vault of heaven so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the earth, so hig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my thoughts and ways than you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rain and snow from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earth blossom and bear fru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you, before retu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d for sowing, bread to eat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So my word returns not fruitl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es not from its labors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t has achieved my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world of joy and peac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! How close the proph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vital gospel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saiah's inspi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Jesus we have hea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35:3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34:34Z</dcterms:modified>
  <cp:revision>7</cp:revision>
  <dc:subject/>
  <dc:title>No Slide Title</dc:title>
</cp:coreProperties>
</file>