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ais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know that Christ is raised and dies no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mbraced by death, he broke its fearful ho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despair he turned to blazing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re by water in his saving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born, we share with him an Easter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living members of a living Chri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creation comes to life and gr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's new body takes on flesh and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universe restored and whole will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1:17:32Z</dcterms:created>
  <dc:creator>Gary Wintergerst</dc:creator>
  <dc:description/>
  <dc:language>en-US</dc:language>
  <cp:lastModifiedBy>U</cp:lastModifiedBy>
  <cp:lastPrinted>1995-08-11T16:01:02Z</cp:lastPrinted>
  <dcterms:modified xsi:type="dcterms:W3CDTF">1997-07-24T17:20:52Z</dcterms:modified>
  <cp:revision>3</cp:revision>
  <dc:subject/>
  <dc:title>No Slide Title</dc:title>
</cp:coreProperties>
</file>