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Fai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Dow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faith, come d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veal the things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ke to us the Godhead kno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tness with the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is thine the blood to appl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us eyes to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d for every sinner di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th surely died fo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one can truly s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Jesus is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less thou take the veil a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reathe the living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, only then, we fee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interest in his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y with joy unspeak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ou art my Lord, my God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at the world might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all-atoning Lamb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faith, descend and sh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rtue of his na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e which all may f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aving power, impa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estify to humank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peak in ever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spire the living fa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which whosoe'er rece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itness in themselves they ha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onsciously believe)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ith that conquers 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oth the mountain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ves whoe'er on Jesus c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erfects them in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6:23:30Z</dcterms:created>
  <dc:creator>Gary Wintergerst</dc:creator>
  <dc:description/>
  <dc:language>en-US</dc:language>
  <cp:lastModifiedBy>U</cp:lastModifiedBy>
  <cp:lastPrinted>1995-08-11T16:01:02Z</cp:lastPrinted>
  <dcterms:modified xsi:type="dcterms:W3CDTF">1997-07-24T14:26:28Z</dcterms:modified>
  <cp:revision>3</cp:revision>
  <dc:subject/>
  <dc:title>No Slide Title</dc:title>
</cp:coreProperties>
</file>