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Speak to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6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speak to me, that I may speak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living echoes of thy t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ou has sought, so let me seek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erring children lost and 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trengthen me, that while I st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rm on the rock, and strong in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may stretch out a loving h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restlers with the troubled se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each me, Lord, that I may teac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recious things thou dost imp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ing my words, that they may reac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idden depths of many a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ill me with thy fullness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my very heart o'erfl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kindling thought and glowing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love to tell, thy praise to sh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use me, Lord, use even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as thou wilt, and when, and w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thy blessed face I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rest, thy joy, thy glory sh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3T20:28:56Z</dcterms:created>
  <dc:creator>Gary Wintergerst</dc:creator>
  <dc:description/>
  <dc:language>en-US</dc:language>
  <cp:lastModifiedBy>U</cp:lastModifiedBy>
  <cp:lastPrinted>1995-08-11T16:01:02Z</cp:lastPrinted>
  <dcterms:modified xsi:type="dcterms:W3CDTF">1997-07-24T15:58:34Z</dcterms:modified>
  <cp:revision>3</cp:revision>
  <dc:subject/>
  <dc:title>No Slide Title</dc:title>
</cp:coreProperties>
</file>