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Gives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y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Medical Mission Sis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gives glory to my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rt pours out it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lifted up my lowli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y marvelous w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has done great things for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holy is t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eople will declare me ble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ings they shall 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, to all who f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mercy love imp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pensing justice far and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missing selfish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sts the mighty from their thr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otes the in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s hungry spirits satis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ich seem suddenly po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whose loving coven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ports those in distr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 past promi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present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10:2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37:28Z</dcterms:modified>
  <cp:revision>3</cp:revision>
  <dc:subject/>
  <dc:title>No Slide Title</dc:title>
</cp:coreProperties>
</file>