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Murm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Dove's So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murmur of the dove's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challenge of her f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vigor of the wind's ru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the new flame's eager m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,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members of Christ's bod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branches of the 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church in faith assemb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er midst as gift and sig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,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healing of divi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ceaseless voice of pray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power to love and wit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 peace beyond compa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Holy Spirit, c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56:22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44:29Z</dcterms:modified>
  <cp:revision>4</cp:revision>
  <dc:subject/>
  <dc:title>No Slide Title</dc:title>
</cp:coreProperties>
</file>