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ig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shall reign where'er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es its successive journeys ru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spread from shore to sh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15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oons shall wax and wane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endless prayer be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ndless praises crown his h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name like sweet perfume shall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y morning sacrif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ople and realms of every tong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on his love with sweetest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fant voices shall procla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early blessings on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abound where'er he reig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isoners leap and loose their chai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eary find eternal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who suffer want are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creature rise and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s peculiar to our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descend with songs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repeat the loud ame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55:50Z</dcterms:created>
  <dc:creator>Gary Wintergerst</dc:creator>
  <dc:description/>
  <dc:language>en-US</dc:language>
  <cp:lastModifiedBy>U</cp:lastModifiedBy>
  <cp:lastPrinted>1995-07-10T20:47:30Z</cp:lastPrinted>
  <dcterms:modified xsi:type="dcterms:W3CDTF">1997-07-24T00:37:36Z</dcterms:modified>
  <cp:revision>3</cp:revision>
  <dc:subject/>
  <dc:title>No Slide Title</dc:title>
</cp:coreProperties>
</file>