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Grace 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Glo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7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arry Emerson Fosdic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grace and God of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y people pour thy pow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thine ancient church's sto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her bud to glorious flow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wisdom, grant us cour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facing of this hou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facing of this hou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! the hosts of evil round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corn thy Christ, assail his way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rs and doubts too long have bound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 our hearts to work and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wisdom, grant us cour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iving of these d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iving of these day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re thy children's warring ma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d our pride to thy contro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me our wanton, selfish gla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ch in things and poor in sou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wisdom, grant us cour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st we miss thy kingdom's go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st we miss thy kingdom's go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us from weak resign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evils we depl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search for thy salv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our glory everm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us wisdom, grant us courag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ing thee whom we ad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rving thee whom we ad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16:39:0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2002-06-19T03:46:01Z</dcterms:modified>
  <cp:revision>4</cp:revision>
  <dc:subject/>
  <dc:title>No Slide Title</dc:title>
</cp:coreProperties>
</file>