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read of Lif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Is Brok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3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(Eng:2; Ch:6(v 1); Eng/Ch:8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cr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read of life for all is broke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drank the cup on Golgoth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grace we trust, and spread with reveren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holy feast, and thus rememb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godly fear we seek thy presen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earts distressed by people's grief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holy face is stained with bitter tear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uman pain still bearest thou with u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we pray, come thou among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en our eyes, brightly appea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mmanuel, heaven's joy unen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life with thine forever blend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u shi zhi shen, wei zhong-sheng bokai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Zai Gulou di, tong in kubei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ng en xin-zhong, feng ming chang jini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ng she sheng-yan, zhuii dang nia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read of life for all is broke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drank the cup on Golgoth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u shi zhi shen, wei zhong-sheng bokai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Zai Gulou di, tong in kubei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grace we trust, and spread with reveren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holy feast, and thus rememb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ng en xin-zhong, feng ming chang jini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ng she sheng-yan, zhuii dang nia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5080" y="335268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3:00:04Z</dcterms:created>
  <dc:creator>Gary Wintergerst</dc:creator>
  <dc:description/>
  <dc:language>en-US</dc:language>
  <cp:lastModifiedBy>Gary Wintergerst</cp:lastModifiedBy>
  <cp:lastPrinted>1995-12-25T20:38:26Z</cp:lastPrinted>
  <dcterms:modified xsi:type="dcterms:W3CDTF">1999-11-14T02:31:18Z</dcterms:modified>
  <cp:revision>6</cp:revision>
  <dc:subject/>
  <dc:title>No Slide Title</dc:title>
</cp:coreProperties>
</file>