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Churc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9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9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church of Jesus shuts its outer do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st the roar of traffic drown the voice of pray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our prayers, Lord, make us ten times mo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ware that the world we banish is our Christian c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our hearts are lifted where devotion soa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gh above this hungry, suffering world of ou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st our hymns should drug us to forget its nee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e our Christian worship into Christian deed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st the gifts we offer, money, talents, ti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e to salve our conscience, to our secret sh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reprove, inspire us by the way you g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us, dying Savior, how true Christians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9:29:2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1:09:22Z</dcterms:modified>
  <cp:revision>4</cp:revision>
  <dc:subject/>
  <dc:title>No Slide Title</dc:title>
</cp:coreProperties>
</file>