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Has Venido A la Orill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Lord, You Have Com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to the Lakeshor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4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 2; Eng: 11; Sp/Eng: 20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Ediciones Paulin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come to the lake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neither for wealthy nor wise on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only asked me to follow humbl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know so well my possess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boat carries no gold and no weap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find there my nets and lab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need my hands, full of c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y labors to give other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stant love that keeps on lo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who have fished other ocea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longed for by souls who are wai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ving friend, as thus you call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has venido a la orill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has buscado ni a sabios ni a ric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quieres que yo te siga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has venido a la orill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has buscado ni a sabios ni a ric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you have come to the lake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king neither for wealthy nor wise on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quieres que yo te siga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only asked me to follow humbl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sabes bien lo que teng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mi barca no hay oro ni espad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know so well my possessi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boat carries no gold and no weapo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redes y mi trabaj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find there my nets and labo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necesitas mis man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ansancio que a otros descan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need my hands, full of c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my labors to give other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que quiera seguir amando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stant love that keeps on lov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, pescador de otros m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sia eterna de almas que esper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, who have fished other ocea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longed for by souls who are wait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8760" y="3429000"/>
            <a:ext cx="89028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go bueno, que así me llam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ving friend, as thus you call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, with your eyes you have searched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ile smiling have spoken my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my boat's left on the shoreline behi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your side I will seek other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sabes bien lo que teng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mi barca no hay oro ni espad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n sólo redes y mi trabaj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 necesitas mis man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i cansancio que a otros descan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r que quiera seguir amando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ú, pescador de otros mar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sia eterna de almas que esper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go bueno, que así me llama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, me has mirado a los oj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sonriendo has dicho mi nomb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la arena he dejado mi barca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nto a ti buscaré otro m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9T21:17:14Z</dcterms:created>
  <dc:creator>Gary Wintergerst</dc:creator>
  <dc:description/>
  <dc:language>en-US</dc:language>
  <cp:lastModifiedBy>Gary Wintergerst</cp:lastModifiedBy>
  <cp:lastPrinted>1996-02-12T18:52:58Z</cp:lastPrinted>
  <dcterms:modified xsi:type="dcterms:W3CDTF">1999-11-12T22:48:54Z</dcterms:modified>
  <cp:revision>9</cp:revision>
  <dc:subject/>
  <dc:title>No Slide Title</dc:title>
</cp:coreProperties>
</file>