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But Suff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o Guid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4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ou but suffer God to guid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pe in God through all thy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give strength, whate'er betid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ar thee through the evil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usts in God's unchanging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ds on the rock that naught can m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be still, and wait God's leis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eerful hope, with heart conte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ake whate'er thy Maker's pleas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-discerning love hath se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ow our in-most wants are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 are called to be God's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, pray, and keep God's ways unswer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do thine own part faithful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st God's word; though undeser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yet shalt find it true for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never yet forsook at n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ul that trusted God in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7:03:40Z</dcterms:created>
  <dc:creator>Gary Wintergerst</dc:creator>
  <dc:description/>
  <dc:language>en-US</dc:language>
  <cp:lastModifiedBy>U</cp:lastModifiedBy>
  <cp:lastPrinted>1995-08-11T16:01:02Z</cp:lastPrinted>
  <dcterms:modified xsi:type="dcterms:W3CDTF">1997-07-24T00:34:50Z</dcterms:modified>
  <cp:revision>3</cp:revision>
  <dc:subject/>
  <dc:title>No Slide Title</dc:title>
</cp:coreProperties>
</file>