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; lo! his star is sh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stable while the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n a manger on the hay recli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let us lay our gifts befor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Mary's son mos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the village life from day to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revealed through every task most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 of God, the life, the truth,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on the mountain t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e listening people gathered 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birds and flowers and sky above are preach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ssedness which simple trust ha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in his work of h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eventide before the sun was s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vine and human, in his deep reveal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 made flesh, in loving service m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see Jesus, in the earl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s of old he calleth, "Follow m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rise, all meaner service sc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re thine, we give ourselves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32:58Z</dcterms:created>
  <dc:creator>Gary Wintergerst</dc:creator>
  <dc:description/>
  <dc:language>en-US</dc:language>
  <cp:lastModifiedBy>U</cp:lastModifiedBy>
  <cp:lastPrinted>1995-08-30T07:48:42Z</cp:lastPrinted>
  <dcterms:modified xsi:type="dcterms:W3CDTF">1997-07-24T04:57:40Z</dcterms:modified>
  <cp:revision>2</cp:revision>
  <dc:subject/>
  <dc:title>No Slide Title</dc:title>
</cp:coreProperties>
</file>