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48769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Hope I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mly Ground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3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y hope is firmly ground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great and living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, whenever I most need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fails to keep his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 must wholly tru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ever good and ju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, who can trust our na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an, weak, and insecur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of all the airy castl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the hurricane endur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ilt on sand, naught can st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our earthly wisdom plann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in every time and sea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love's abundant st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ustains the whole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unt of life forever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ho share earth and ai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unt on God's unfailing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k, O thank, our great Creat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God's only Son this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lone, the heavenly pot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e us out of earth and cl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ck to heed, strong in d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hall all the people f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6:42:2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2:35:56Z</dcterms:modified>
  <cp:revision>4</cp:revision>
  <dc:subject/>
  <dc:title>No Slide Title</dc:title>
</cp:coreProperties>
</file>