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Lord's Pray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dapt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1 Abingdon Pr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Father, which art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kingdom come, thy will be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ne on earth as it is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us this day our daily bre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give all our deb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e forgive our debto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us not into tempta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eliver us from evi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is the kingdom, power, and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y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ever and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, amen, amen, am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llowed-a be thy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45:56Z</dcterms:created>
  <dc:creator>Gary Wintergerst</dc:creator>
  <dc:description/>
  <dc:language>en-US</dc:language>
  <cp:lastModifiedBy>Gary Wintergerst</cp:lastModifiedBy>
  <cp:lastPrinted>1995-08-30T07:48:42Z</cp:lastPrinted>
  <dcterms:modified xsi:type="dcterms:W3CDTF">1999-11-12T18:16:54Z</dcterms:modified>
  <cp:revision>4</cp:revision>
  <dc:subject/>
  <dc:title>No Slide Title</dc:title>
</cp:coreProperties>
</file>