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Your L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Called Us Her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in Christ you set us f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fe to live, your joy to sh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your Spirit's liber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urn from guilt and dull desp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ffer all that faith can 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love is making all things ne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your love has called us 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, by love, for love were ma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iving likeness still we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marred, dishonored, disobey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, with all our heart and m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call to hear, your love to f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me with self-inflicted pa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broken trust and chosen w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f-free, halfbound by inner ch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social forces swept al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powers and systems close conf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seeking hope for human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, in Christ you call our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n receive us as your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through some merit, right, or 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by your gracious love al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rain to glimpse your mercy s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nd you kneeling at our f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take the towel, and break the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umble us, and call us frie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ffer and serve till all are f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how grandly love inten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ork till all creation s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ill all worlds, to crown all thing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49:10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1:01:46Z</dcterms:modified>
  <cp:revision>4</cp:revision>
  <dc:subject/>
  <dc:title>No Slide Title</dc:title>
</cp:coreProperties>
</file>