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Charge t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I Ha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1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charge to keep I ha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God to glorif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never-dying soul to sa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it it for the sk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rve the present ag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calling to fulfi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y it all my powers engag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do my Master's wil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m me with jealous c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in thy sight to li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h, thy servant, Lord, prep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trict account to gi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me to watch and p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n thyself re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sured, if I my trust bet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all forever di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11T21:16:00Z</dcterms:created>
  <dc:creator>Gary Wintergerst</dc:creator>
  <dc:description/>
  <dc:language>en-US</dc:language>
  <cp:lastModifiedBy>U</cp:lastModifiedBy>
  <cp:lastPrinted>1996-01-02T16:36:04Z</cp:lastPrinted>
  <dcterms:modified xsi:type="dcterms:W3CDTF">1997-07-24T15:49:10Z</dcterms:modified>
  <cp:revision>3</cp:revision>
  <dc:subject/>
  <dc:title>No Slide Title</dc:title>
</cp:coreProperties>
</file>