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rest Lord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89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rest Lor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uler of all nat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of God and man th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 will I cheris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 will I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, my soul's glory, joy, and cr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r are the mead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rer still the woodl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bed in the blooming garb of spr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fair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pur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makes the woeful heart to s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r is the suns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rer still the moon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e twinkling starry hos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hines brigh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hines pur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all the angels heaven can bo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 Savio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 the nation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 of God and Son of Ma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and hon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ador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nd forevermore be th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0T21:53:20Z</dcterms:created>
  <dc:creator>Gary Wintergerst</dc:creator>
  <dc:description/>
  <dc:language>en-US</dc:language>
  <cp:lastModifiedBy>U</cp:lastModifiedBy>
  <cp:lastPrinted>1995-07-20T21:51:08Z</cp:lastPrinted>
  <dcterms:modified xsi:type="dcterms:W3CDTF">1997-07-24T01:27:03Z</dcterms:modified>
  <cp:revision>3</cp:revision>
  <dc:subject/>
  <dc:title>No Slide Title</dc:title>
</cp:coreProperties>
</file>