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G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Verse 1 in Native American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dialects follow frame 8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Navajo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ZHÓNÍGO JOOBA' DITTS' A'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ISDÁSHÍÍTÍNÍGÍÍ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H YÓÓÍÍYÁ, K'AD SHÉNÁHOOSDZ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O EESH'ÍÍ DA NT'ÉÉ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279f"/>
                </a:solidFill>
                <a:latin typeface="Arial"/>
              </a:rPr>
              <a:t>[Kiowa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E TSOW'HAW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EE.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BAY DAWTSAHY TAW, GAW AYM OW THAH T'AW,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DAW K'EE DA HA DAWTSAHY H'EE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reek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 YA FEK CHA HE THLAT AH T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 NON AH CHA PA K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 FEE KEE O FUNNAN LA K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 E HA TA LA Y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hoctaw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LOMBISH HOLITOPA M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HMMINTI PULLA CH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AK ILBUSHA PIA H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PI YUKPALASH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grace! How sweet the s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aved a wretch like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once was lost, but now am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blind, but now I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grace that taught my heart t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ce my fears relie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precious did that grace app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ur I first believ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any dangers, toils, and sn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already co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grace hath brought me safe thus 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ce will lead me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has promised good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ord my hope secur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my shield and portion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ong as life endur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when this flesh and heart shall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ortal life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possess, within the ve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fe of joy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've been there ten thousand y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shining as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ve no less days to sing God's p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when we'd first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[Cherokee]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OH NAY THLA NAH, HEE OO WAY GEE.'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GAH GWOO YAH HAY 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W GWOO JOE SAH, WE YOU LOW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GAH GWOO YAH HO NA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22:23:32Z</dcterms:created>
  <dc:creator>Gary Wintergerst</dc:creator>
  <dc:description/>
  <dc:language>en-US</dc:language>
  <cp:lastModifiedBy>U</cp:lastModifiedBy>
  <cp:lastPrinted>1995-08-03T22:17:52Z</cp:lastPrinted>
  <dcterms:modified xsi:type="dcterms:W3CDTF">1997-07-24T14:32:26Z</dcterms:modified>
  <cp:revision>3</cp:revision>
  <dc:subject/>
  <dc:title>No Slide Title</dc:title>
</cp:coreProperties>
</file>