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s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3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n hear my Savior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n hear my Savior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n hear my Savior c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ake thy cross and follow, follow m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, with him all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 through the gard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 through the gard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 through the gard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, with him all the 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, with him all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 through the judgm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 through the judgm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 through the judgm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, with him all the 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, with him all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give me grace and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give me grace and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ill give me grace and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 with me, with me all the w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he leads me I will fol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ll go with him, with him all the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14:25:12Z</dcterms:created>
  <dc:creator>Gary Wintergerst</dc:creator>
  <dc:description/>
  <dc:language>en-US</dc:language>
  <cp:lastModifiedBy>U</cp:lastModifiedBy>
  <cp:lastPrinted>1995-08-02T14:20:50Z</cp:lastPrinted>
  <dcterms:modified xsi:type="dcterms:W3CDTF">1997-07-24T14:27:02Z</dcterms:modified>
  <cp:revision>4</cp:revision>
  <dc:subject/>
  <dc:title>No Slide Title</dc:title>
</cp:coreProperties>
</file>