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reath of Lif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4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reath of Life, come sweeping through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vive your church with life and pow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reath of Life, come, cleanse, renew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it your church to meet this hou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ind of God, come, bend us, break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humbly we confess our ne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in your tenderness remake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vive, restore, for this we ple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Breath of Love, come, breathe within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ewing thought and will and he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love of Christ, afresh to win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vive your church in every p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15:52:54Z</dcterms:created>
  <dc:creator>Gary Wintergerst</dc:creator>
  <dc:description/>
  <dc:language>en-US</dc:language>
  <cp:lastModifiedBy>U</cp:lastModifiedBy>
  <cp:lastPrinted>1995-08-07T15:04:32Z</cp:lastPrinted>
  <dcterms:modified xsi:type="dcterms:W3CDTF">1997-07-24T16:40:04Z</dcterms:modified>
  <cp:revision>3</cp:revision>
  <dc:subject/>
  <dc:title>No Slide Title</dc:title>
</cp:coreProperties>
</file>