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ome With Jo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ome with joy to meet my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n, loved and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we and wonder to rec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ife laid down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life laid down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ome with Christians far and n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ind, as all are f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w community of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's communion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's communion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hrist breaks bread and bids us sh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proud division en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ve that made us that makes us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rangers now are frie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rangers now are frien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us with joy we meet our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presence, always n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in such friendship better kn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 and praise him 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 and praise him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gether met, together b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go our different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s his people in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live and speak his p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live and speak his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7:54:0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2:19:50Z</dcterms:modified>
  <cp:revision>4</cp:revision>
  <dc:subject/>
  <dc:title>No Slide Title</dc:title>
</cp:coreProperties>
</file>