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the Depth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ry to You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8 Lutheran Book of Worsh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t of the depths I cry to you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now hear me call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cline your ear to my distr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spite of my rebell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regard my sinful dee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d me the grace my spirit need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it I am noth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ings you send are full of g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crown our lives with fav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good works are done in v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out our Lord and Savi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praise the God who gives us fa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ves us from the grip of dea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lives are in God's keep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in God that we shall hop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not in our own mer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est our fears in God's good W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rust the Holy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promise keeps us strong and s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rust the holy signatu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scribed upon our temple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soul is waiting for the L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ne who longs for morn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watcher waits with greater hop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n I for Christ's return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ope as Israel in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ends redemption through the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 for endless merc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7T21:59:0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39:38Z</dcterms:modified>
  <cp:revision>4</cp:revision>
  <dc:subject/>
  <dc:title>No Slide Title</dc:title>
</cp:coreProperties>
</file>