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esus, I Lov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Jesus, I love thee, I know thou art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e all the follies of sin I res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racious Redeemer, my Savior art th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ever I loved thee, my Jesus, 'ti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e because thou hast first lov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rchased my pardon on Calvary's t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hee for wearing the thorns on thy b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ever I loved thee, my Jesus, 'ti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ansions of glory and endless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ever adore thee in heaven so b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sing with the glittering crown on my br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ever I loved thee, my Jesus, 'ti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19:28Z</dcterms:created>
  <dc:creator>Gary Wintergerst</dc:creator>
  <dc:description/>
  <dc:language>en-US</dc:language>
  <cp:lastModifiedBy>U</cp:lastModifiedBy>
  <cp:lastPrinted>1995-08-11T16:01:02Z</cp:lastPrinted>
  <dcterms:modified xsi:type="dcterms:W3CDTF">1997-07-24T01:24:04Z</dcterms:modified>
  <cp:revision>4</cp:revision>
  <dc:subject/>
  <dc:title>No Slide Title</dc:title>
</cp:coreProperties>
</file>