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reatness of the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numbered blessings give my spirit v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der to me the promise of God's 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od my Savior shall my heart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reatness of God's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known God's might, who wondrous deeds has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mercy sure, from age to age the s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holy name, the Lord, the mighty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reatness of God's mi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s and dominions lay their glory b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ud hearts and stubborn wills are put to f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ungry fed, the humble lifted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lories of God's w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 is the promise and God's mercy su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ut, my soul, the greatness of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ildren's children and forever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8T08:20:44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08T04:39:16Z</dcterms:modified>
  <cp:revision>3</cp:revision>
  <dc:subject/>
  <dc:title>No Slide Title</dc:title>
</cp:coreProperties>
</file>