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e Is Glad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6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e is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d all s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unshine of my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e are gi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ifts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true Redeemer 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uls thou mak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bonds thou break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rusts thee sure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built secure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ands forever.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are pi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 thy shi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ying or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 are clea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aught can us sever.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God be 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ear no pow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of earth or sin or de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ees and bles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orst distres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n change them in a bre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fore the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of God's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and voic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eaven rejoi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forever.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out for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umph o'er s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and prai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oices still rai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ad hymns forever.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7:15:44Z</dcterms:created>
  <dc:creator>Gary Wintergerst</dc:creator>
  <dc:description/>
  <dc:language>en-US</dc:language>
  <cp:lastModifiedBy>U</cp:lastModifiedBy>
  <cp:lastPrinted>1995-08-11T16:01:02Z</cp:lastPrinted>
  <dcterms:modified xsi:type="dcterms:W3CDTF">1997-07-24T01:14:00Z</dcterms:modified>
  <cp:revision>2</cp:revision>
  <dc:subject/>
  <dc:title>No Slide Title</dc:title>
</cp:coreProperties>
</file>