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um Ba Yah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um ba yah, my Lord, kum ba ya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um ba yah, my Lord, kum ba ya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um ba yah, my Lord, kum ba ya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pra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pra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pra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cr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cr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cry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needs you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needs you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 needs you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sing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sing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one's singing,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the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the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raise the Lord, kum ba ya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Lord, kum ba 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37:1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0-06-16T18:01:37Z</dcterms:modified>
  <cp:revision>4</cp:revision>
  <dc:subject/>
  <dc:title>No Slide Title</dc:title>
</cp:coreProperties>
</file>