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511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1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Jes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43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12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Jesu, fill us with your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us how to ser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ighbors we h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eel at the feet of our frie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ly washing their f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way we should l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Jesu, fill us with your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us how to ser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ighbors we h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Jesu, fill us with your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us how to ser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ighbors we h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eels at the feet of his friend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ly washes their f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 who acts as a sla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Jesu, fill us with your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us how to ser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ighbors we h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ighbors are rich and poor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ighbors are black and whit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ighbors are n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ar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Jesu, fill us with your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us how to ser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ighbors we h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se are the ones we should ser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se are the ones we should l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se are neighbors to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, Jesu, fill us with your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w us how to ser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ighbors we h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ing puts us on our kne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ing as though we are slav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e way we should l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0:07:38Z</dcterms:created>
  <dc:creator>Gary Wintergerst</dc:creator>
  <dc:description/>
  <dc:language>en-US</dc:language>
  <cp:lastModifiedBy>Gary Wintergerst</cp:lastModifiedBy>
  <dcterms:modified xsi:type="dcterms:W3CDTF">1999-11-14T00:12:19Z</dcterms:modified>
  <cp:revision>3</cp:revision>
  <dc:subject/>
  <dc:title>No Slide Title</dc:title>
</cp:coreProperties>
</file>