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Mock Your Reig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Dearest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8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3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mock your reign, O dearest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made a crown of thorn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t you with taunts along that roa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which no one return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could not know, as we do n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glorious is that crow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thorns would flower upon your br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sorrows heal our ow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mock acclaim, O gracious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snatched a purple cloak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passion turned, for all they car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to a soldier's jok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could not know, as we do n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though we merit bla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will your role of mercy thro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round our naked sh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sceptered reed, O patient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thrust into your ha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cted out their grim charad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its appointed en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y could not know, as we do n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gh empires rise and fa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kingdom shall not cease to grow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love embraces al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7T16:59:42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12T18:23:14Z</dcterms:modified>
  <cp:revision>3</cp:revision>
  <dc:subject/>
  <dc:title>No Slide Title</dc:title>
</cp:coreProperties>
</file>