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Mighty Savi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8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2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mighty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of all cre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make the dayti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diant with the sunl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the night gi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ittering adornm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s in the heaven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comes the day's e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sun is sett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rror of daybrea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edge of resurrect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in the heave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oirs of stars appea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 the nightf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fore we come 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ning rites to off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fully chant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hymns to prais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cre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ing hearts and voic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 your glo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heed, we pray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our supplic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you may grant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don for offen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ngth for our weak hear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t for aching bod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othing the wea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bodies slumb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ts shall keep their vig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ever rest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peace of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light or dark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shiping our Savi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and fore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19:48:30Z</dcterms:created>
  <dc:creator>Gary Wintergerst</dc:creator>
  <dc:description/>
  <dc:language>en-US</dc:language>
  <cp:lastModifiedBy>Gary Wintergerst</cp:lastModifiedBy>
  <cp:lastPrinted>1995-12-28T04:37:40Z</cp:lastPrinted>
  <dcterms:modified xsi:type="dcterms:W3CDTF">1999-11-14T02:55:26Z</dcterms:modified>
  <cp:revision>5</cp:revision>
  <dc:subject/>
  <dc:title>No Slide Title</dc:title>
</cp:coreProperties>
</file>