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Desc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M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God, descend upo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n it from earth; through all its pulses 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p to my weakness, mighty as thou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me love thee as I ought to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sk no dream, no prophet ecstas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sudden rending of the veil of c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angel visitant, no opening sk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ake the dimness of my soul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thou not bid me love thee, God and K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, all thine own, soul, heart and strength and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y cross; there teach my heart to c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seek thee, and O let me fin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feel that thou art always n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e struggles of the soul to b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eck the rising doubt, the rebel s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he patience of unanswered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to love thee as thine angel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holy passion filling all my fr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dling of the heaven-descended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an altar, and thy love the fl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22:08Z</dcterms:created>
  <dc:creator>Gary Wintergerst</dc:creator>
  <dc:description/>
  <dc:language>en-US</dc:language>
  <cp:lastModifiedBy>U</cp:lastModifiedBy>
  <cp:lastPrinted>1995-08-11T16:01:02Z</cp:lastPrinted>
  <dcterms:modified xsi:type="dcterms:W3CDTF">1997-07-24T16:24:50Z</dcterms:modified>
  <cp:revision>3</cp:revision>
  <dc:subject/>
  <dc:title>No Slide Title</dc:title>
</cp:coreProperties>
</file>