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 Dep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Love Divi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 depth of love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unfathomable gra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hall say how bread and wi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nto us convey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the bread his flesh impa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the wine transmits his bl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s his faithful people's hear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the life of Go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wisest mortals sh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we the grace rece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ble elements best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ower not theirs to g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explains the wondrous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through these the virtue ca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se the virtue did conv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still remain the s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can spirits heavenward 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earthly matter f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 herewith divine suppl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 the Father's wisdom how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who did the means ord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round our altars b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arch it out, in va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 and real is the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anner be unkn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meet us in thy w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erfect us in 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taste the heavenly pow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e ask for nothing 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to bless, 'tis only ou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onder and ad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30:34Z</dcterms:created>
  <dc:creator>Gary Wintergerst</dc:creator>
  <dc:description/>
  <dc:language>en-US</dc:language>
  <cp:lastModifiedBy>U</cp:lastModifiedBy>
  <cp:lastPrinted>1995-12-25T20:33:58Z</cp:lastPrinted>
  <dcterms:modified xsi:type="dcterms:W3CDTF">1997-07-24T17:25:36Z</dcterms:modified>
  <cp:revision>4</cp:revision>
  <dc:subject/>
  <dc:title>No Slide Title</dc:title>
</cp:coreProperties>
</file>