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ee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eet you, O Christ, in many a gu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image we see in simple and w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live in a palace, exist in a shac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you, the gardener, a tree on your bac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illions alive, away and abro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volved in our life, you live down the ro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mprisoned in systems, you long to b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you, Lord Jesus, still bearing your t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you, O man, in agony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reedom you march, in riots you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ace in the papers we read and we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 must be planted by human dec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hoose to be made at one with the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rk of the grave prepares for your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death is your rising, creative your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ee springs to life and our hope i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48:1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07:41Z</dcterms:modified>
  <cp:revision>3</cp:revision>
  <dc:subject/>
  <dc:title>No Slide Title</dc:title>
</cp:coreProperties>
</file>