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Young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less Prophe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4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young and fearless Proph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eed thy presence 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id our pride and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 thy face app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more to hear thy challeng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our nois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gain to lead us forwa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ong God's holy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young and fearless Proph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ncient Galil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life is still a summo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humanit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ake our thoughts and actio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s prone to please the crow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tand with humble courag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ruth with hearts uncow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arvel at the purpo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held thee to thy cour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ever on the hillto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thee loomed the cro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steadfast face set forwa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love and duty sh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we betray so quick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ave thee there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elp us stand unswer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gainst war's bloody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ate and lust and falseh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back Christ's holy s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bid false love of count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linds us to his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lifts above the natio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unity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r up in us a protest 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inst our greed for weal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others starve and hung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lead for work and heal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omes with little childr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y out for lack of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live their years sore burden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eath a gloomy d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1T16:02:46Z</dcterms:created>
  <dc:creator>Gary Wintergerst</dc:creator>
  <dc:description/>
  <dc:language>en-US</dc:language>
  <cp:lastModifiedBy>U</cp:lastModifiedBy>
  <cp:lastPrinted>1995-08-11T16:01:02Z</cp:lastPrinted>
  <dcterms:modified xsi:type="dcterms:W3CDTF">1997-07-24T15:55:22Z</dcterms:modified>
  <cp:revision>3</cp:revision>
  <dc:subject/>
  <dc:title>No Slide Title</dc:title>
</cp:coreProperties>
</file>