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Underst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Better By and B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and by, when the morning co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aints of God are gathered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tell the story how we've over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'll understand it better by and b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mptations, hidden snar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ten take us unawa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ur hearts are made to ble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 thoughtless word or de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wonder why the te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we try to do our b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we'll understand it better by and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and by, when the morning co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aints of God are gathered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tell the story how we've over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'll understand it better by and b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ossed and dri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restless sea of ti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ber skies and howling tempes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t succeed a bright sunshi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at land of perfect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mists have rolled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understand it better by and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and by, when the morning co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aints of God are gathered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tell the story how we've over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'll understand it better by and b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often destitu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things that life deman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nt of food and want of shel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rsty hills and barren land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re trusting i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ccording to God's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understand it better by and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and by, when the morning com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aints of God are gathered h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ll tell the story how we've over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'll understand it better by and b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ials dark on every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 cannot underst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ways that God would lead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at blessed promised l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he guides us with his ey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e'll follow till we d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e'll understand it better by and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6T17:48:10Z</dcterms:created>
  <dc:creator>Gary Wintergerst</dc:creator>
  <dc:description/>
  <dc:language>en-US</dc:language>
  <cp:lastModifiedBy>U</cp:lastModifiedBy>
  <cp:lastPrinted>1995-08-07T15:04:32Z</cp:lastPrinted>
  <dcterms:modified xsi:type="dcterms:W3CDTF">1997-07-24T16:36:44Z</dcterms:modified>
  <cp:revision>3</cp:revision>
  <dc:subject/>
  <dc:title>No Slide Title</dc:title>
</cp:coreProperties>
</file>