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6577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Si Vivemo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(When We Are Living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356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(Sp:2; Eng:8; Sp/Eng:14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5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 times of sorrow and in times of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sensing beauty or in love's emb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ther we suffer, or sing rejoic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ross this wide world, we shall always f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are crying with no peace of m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en we help them, or when we feed th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si vivimos, para Él vivim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i morimos para Él morim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living, it is in Christ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we're dying, it is in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 que vivamos o que muram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th in our living and in our dy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sta vida, frutos hemos de d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s obras buenas son para ofrend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our living, we our fruits must g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works of service are for offe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a sea que demos o que recibam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giving, or when receiv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tristeza y en el dol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belleza y en e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‘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 times of sorrow and in times of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sensing beauty or in love's embr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 que suframos o que gocem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ther we suffer, or sing rejoic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si vivimos, para Él vivim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i morimos para Él morim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 que vivamos o que muram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ste mundo, hemos de encontr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e que llora y sin consol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ross this wide world, we shall always f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are crying with no peace of m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 que ayudemos o que alimentemo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en we help them, or when we feed the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sta vida, frutos hemos de d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s obras buenas son para ofrend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a sea que demos o que recibam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tristeza y en el dol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belleza y en e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 que suframos o que gocem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ste mundo, hemos de encontr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e que llora y sin consol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 que ayudemos o que alimentem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del Señor, somos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living, it is in Christ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we're dying, it is in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th in our living and in our d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our living, we our fruits must g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works of service are for offe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are giving, or when rece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ong to God, we belong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19:14:50Z</dcterms:created>
  <dc:creator>Gary Wintergerst</dc:creator>
  <dc:description/>
  <dc:language>en-US</dc:language>
  <cp:lastModifiedBy>Gary Wintergerst</cp:lastModifiedBy>
  <dcterms:modified xsi:type="dcterms:W3CDTF">1999-11-12T22:53:43Z</dcterms:modified>
  <cp:revision>6</cp:revision>
  <dc:subject/>
  <dc:title> </dc:title>
</cp:coreProperties>
</file>