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of Ma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e and Lowl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7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of Mary, pure and low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iden mother, wise and mi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of God's own Son most hol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became her little chi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irest child of fairest mo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the Lord who came to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d made flesh, our very bro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s our nature by his birt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of Jesus, son of Ma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home at Nazare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il and labor cannot wear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enduring unto dea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stant was the love he gave 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it drove him from her s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th to preach, and heal, and suff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ill on Calvary he di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 mother, full of gla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ine arms thy Lord was born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urnful mother, full of sa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y heart with pain was tor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ous mother, now reward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a crown at Jesus' ha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ge to age thy name record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all be blest in every l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4:48:26Z</dcterms:created>
  <dc:creator>Gary Wintergerst</dc:creator>
  <dc:description/>
  <dc:language>en-US</dc:language>
  <cp:lastModifiedBy>U</cp:lastModifiedBy>
  <cp:lastPrinted>1995-08-30T07:48:42Z</cp:lastPrinted>
  <dcterms:modified xsi:type="dcterms:W3CDTF">1997-07-24T05:01:17Z</dcterms:modified>
  <cp:revision>3</cp:revision>
  <dc:subject/>
  <dc:title>No Slide Title</dc:title>
</cp:coreProperties>
</file>