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ame 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ame of Jesus every knee shall b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tongue confess him King of glory now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e Father's pleasure we should call him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the beginning was the mighty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ed for a season, to receive a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lips of sinners unto whom he c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fully he bore it, spotless to the l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ught it back victorious when from death he pass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e it up triumphant with its human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ranks of creatures to the central he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throne of Godhead, to the Father's br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ed it with the glory of that perfect r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your hearts enthrone him; there let him subd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is not holy, all that is not tru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as your captain in temptation's hou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his will enfold you in its light and pow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07:16:26Z</dcterms:created>
  <dc:creator>Gary Wintergerst</dc:creator>
  <dc:description/>
  <dc:language>en-US</dc:language>
  <cp:lastModifiedBy>U</cp:lastModifiedBy>
  <cp:lastPrinted>1995-08-11T16:01:02Z</cp:lastPrinted>
  <dcterms:modified xsi:type="dcterms:W3CDTF">1997-07-24T01:13:52Z</dcterms:modified>
  <cp:revision>3</cp:revision>
  <dc:subject/>
  <dc:title>No Slide Title</dc:title>
</cp:coreProperties>
</file>