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n Our Music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s Glorifie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6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61102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1102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61102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Fred Pratt Green, 1971 (Mk. 14:26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61102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Symbol"/>
                <a:ea typeface="Symbol"/>
              </a:rPr>
              <a:t>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1972 Hope Publishing 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in our music God is glorifie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adoration leaves no room for prid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t is as though the whole creation crie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w often, making music, we have f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new dimension in the world of s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s worship moved us to a more profou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 has the church in liturgy and s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faith and love, through centuries of wro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orne witness to the truth in every tongu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did not Jesus sing a psalm that nigh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en utmost evil strove against the light?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us sing, for whom he won the fight: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every instrument be tuned for prai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all rejoice who have a voice to rais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may God give us faith to sing alway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30:44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1-06-22T23:23:21Z</dcterms:modified>
  <cp:revision>5</cp:revision>
  <dc:subject/>
  <dc:title>No Slide Title</dc:title>
</cp:coreProperties>
</file>