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o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's Anoint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0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o the Lord's Anoint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David's greater So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in the time appoint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reign on earth begu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s to break oppre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t the captive f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ake away transgre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ule in equ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omes with succor spee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ose who suffer wr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lp the poor and nee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id the weak be str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ive them songs for sig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darkness turn to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souls, condemned and d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precious in his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hall come down like showe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on the fruitful ear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, joy, and hope, like flow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ing in his path to bi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him, on the mount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peace, the herald,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ighteousness, in fount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hill to valley f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im shall prayer uncea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aily vows asc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kingdom still increa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kingdom without 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ide of time shall n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covenant rem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shall stand fore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name to us 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8T08:27:10Z</dcterms:created>
  <dc:creator>Gary Wintergerst</dc:creator>
  <dc:description/>
  <dc:language>en-US</dc:language>
  <cp:lastModifiedBy>U</cp:lastModifiedBy>
  <cp:lastPrinted>1995-08-30T07:48:42Z</cp:lastPrinted>
  <dcterms:modified xsi:type="dcterms:W3CDTF">1997-07-24T04:47:18Z</dcterms:modified>
  <cp:revision>2</cp:revision>
  <dc:subject/>
  <dc:title>No Slide Title</dc:title>
</cp:coreProperties>
</file>