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ns and Daught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blest are they who have not s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yet whose faith hath constant be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y eternal life shall w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sons and daughters, let us s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heaven, the gloriou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'er death and hell rose triumph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Easter morn at break of d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ithful women went thei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seek the tomb where Jesus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ngel clad in white they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sat and spake unto the th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r Lord doth go to Galile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night the apostles met in f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idst them came their Lord most d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id, "My peace be on all her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is most holy day of d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arts and voices, Lord,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e, in jubilee and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omas first the tidings he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hey had seen the risen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doubted the disciples' wor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My pierced side, O Thomas, s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hands, my feet, I show to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faithless but believing b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longer Thomas then den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aw the feet, the hands, the s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Thou art my Lord and God," he cri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8:37:10Z</dcterms:created>
  <dc:creator>Gary Wintergerst</dc:creator>
  <dc:description/>
  <dc:language>en-US</dc:language>
  <cp:lastModifiedBy>U</cp:lastModifiedBy>
  <cp:lastPrinted>1995-08-11T16:01:02Z</cp:lastPrinted>
  <dcterms:modified xsi:type="dcterms:W3CDTF">1997-07-24T14:24:32Z</dcterms:modified>
  <cp:revision>3</cp:revision>
  <dc:subject/>
  <dc:title>No Slide Title</dc:title>
</cp:coreProperties>
</file>