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Y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sconsolat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1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ye disconsolate, where'er ye languis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the mercy seat, fervently knee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bring your wounded hearts, here tell your anguis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th has not sorrow that heaven cannot he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of the desolate, light of the stray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of the penitent, fadeless and pur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speaks the Comforter, tenderly say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Earth has not sorrow that heaven cannot cur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e see the bread of life; see waters flowing for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throne of God, pure from ab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to the feast of love; come, ever knowing ear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 no sorrow but heaven can rem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18:21:16Z</dcterms:created>
  <dc:creator>Gary Wintergerst</dc:creator>
  <dc:description/>
  <dc:language>en-US</dc:language>
  <cp:lastModifiedBy>U</cp:lastModifiedBy>
  <cp:lastPrinted>1995-08-07T15:04:32Z</cp:lastPrinted>
  <dcterms:modified xsi:type="dcterms:W3CDTF">1997-07-24T16:34:22Z</dcterms:modified>
  <cp:revision>3</cp:revision>
  <dc:subject/>
  <dc:title>No Slide Title</dc:title>
</cp:coreProperties>
</file>