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to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all the world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, my joy, my 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my strength from day to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him I would f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am sad, to him I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ther one can cheer me s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am sad, he makes me gl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all the world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friend in trials s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go to him for bless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gives them o'er and o'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ends the sunshine and the 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ends the harvest's golden gr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shine and rain, harvest of g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all the world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ue to him I'll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could I this friend den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's so true to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ing him I know I'm 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tches o'er me day and n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ing him by day and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all the world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no better fri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rust him now, I'll trust him wh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's fleeting days shall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life with such a fri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life that has no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ife, eternal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37:10Z</dcterms:created>
  <dc:creator>Gary Wintergerst</dc:creator>
  <dc:description/>
  <dc:language>en-US</dc:language>
  <cp:lastModifiedBy>U</cp:lastModifiedBy>
  <cp:lastPrinted>1995-08-11T16:01:02Z</cp:lastPrinted>
  <dcterms:modified xsi:type="dcterms:W3CDTF">1997-07-24T15:59:12Z</dcterms:modified>
  <cp:revision>3</cp:revision>
  <dc:subject/>
  <dc:title>No Slide Title</dc:title>
</cp:coreProperties>
</file>