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Blo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6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can wash away my sin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blood of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can make me whole again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the blood of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ecious is the fl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makes me bright as s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other fount I k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the blood of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y pardon this I se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the blood of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y cleansing this my plea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the blood of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ecious is the fl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makes me bright as s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other fount I k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the blood of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can for sin aton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the blood of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ught of good that I have don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the blood of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ecious is the fl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makes me bright as s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other fount I k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the blood of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all my hope and pea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the blood of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all my righteousnes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the blood of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recious is the fl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makes me bright as s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other fount I k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but the blood of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9T12:27:34Z</dcterms:created>
  <dc:creator>Gary Wintergerst</dc:creator>
  <dc:description/>
  <dc:language>en-US</dc:language>
  <cp:lastModifiedBy>U</cp:lastModifiedBy>
  <cp:lastPrinted>1995-08-07T15:04:32Z</cp:lastPrinted>
  <dcterms:modified xsi:type="dcterms:W3CDTF">1997-07-24T14:30:26Z</dcterms:modified>
  <cp:revision>3</cp:revision>
  <dc:subject/>
  <dc:title>No Slide Title</dc:title>
</cp:coreProperties>
</file>