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atchers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oly 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9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watchers and ye holy 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ight seraphs, cherubim, and thron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ise the glad strain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ry out, dominions, princedoms, power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rtues, archangels, angels' choirs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higher than the cherub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e glorious than the serap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 their praises,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bearer of th'eternal W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st gracious, magnify the L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pond, ye souls in endless r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patriarchs and prophets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oly twelve, ye martyrs st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saints triumphant, raise the song: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friends, in gladness let us 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upernal anthems echo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God the Father, God the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God the Spirit, Three in One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Alleluia! Alleluia! 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18:24Z</dcterms:created>
  <dc:creator>Gary Wintergerst</dc:creator>
  <dc:description/>
  <dc:language>en-US</dc:language>
  <cp:lastModifiedBy>U</cp:lastModifiedBy>
  <cp:lastPrinted>1995-08-11T16:01:02Z</cp:lastPrinted>
  <dcterms:modified xsi:type="dcterms:W3CDTF">1997-07-22T18:31:10Z</dcterms:modified>
  <cp:revision>2</cp:revision>
  <dc:subject/>
  <dc:title>No Slide Title</dc:title>
</cp:coreProperties>
</file>