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ish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9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natch them in pity from sin and the g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ep o'er the erring one, lift up the fall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m of Jesus, the mighty to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y are slighting him, still he is wai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ing the penitent child to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d with them earnestly, plead with them gent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forgive if they only belie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wn in the human heart, crushed by the temp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elings lie buried that grace can rest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ed by a loving heart, wakened by kin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ords that were broken will vibrate once 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duty demands 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thy labor the Lord will prov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ck to the narrow way patiently win the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poor wanderer a Savior has d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 the perishing, care for the dy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merciful, Jesus will sa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19:32Z</dcterms:created>
  <dc:creator>Gary Wintergerst</dc:creator>
  <dc:description/>
  <dc:language>en-US</dc:language>
  <cp:lastModifiedBy>U</cp:lastModifiedBy>
  <cp:lastPrinted>1995-08-11T16:01:02Z</cp:lastPrinted>
  <dcterms:modified xsi:type="dcterms:W3CDTF">1997-07-24T17:00:02Z</dcterms:modified>
  <cp:revision>3</cp:revision>
  <dc:subject/>
  <dc:title>No Slide Title</dc:title>
</cp:coreProperties>
</file>