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So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Mercy Publish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the Son of God enfold you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is Spirit and his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him fill your heart and satisfy your sou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et him have the things that hol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is Spirit like a do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descend upon your life and make you who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your lamb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your lamb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and sing this song with gladn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your hearts are filled with jo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your hands in sw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render to his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ive him all your tears and sa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him all your years of p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ou'll enter into life in Jesus'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your lamb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fill your lamb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4T13:45:44Z</dcterms:created>
  <dc:creator>Gary Wintergerst</dc:creator>
  <dc:description/>
  <dc:language>en-US</dc:language>
  <cp:lastModifiedBy>Gary Wintergerst</cp:lastModifiedBy>
  <dcterms:modified xsi:type="dcterms:W3CDTF">1999-11-12T22:51:11Z</dcterms:modified>
  <cp:revision>5</cp:revision>
  <dc:subject/>
  <dc:title>No Slide Title</dc:title>
</cp:coreProperties>
</file>