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Survey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ndrous Cros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9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survey the wondrous cro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which the Prince of Glory d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richest gain I count but lo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pour contempt on all my pr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bid it, Lord, that I should bo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e in the death of Christ, my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vain things that charm me m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acrifice them to his blo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, from his head, his hands, his f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rrow and love flow mingled dow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d e'er such love and sorrow m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thorns compose so rich a crown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the whole realm of nature m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ere an offering far too sma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so amazing, so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mands my soul, my life, my all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7:37:48Z</dcterms:created>
  <dc:creator>Gary Wintergerst</dc:creator>
  <dc:description/>
  <dc:language>en-US</dc:language>
  <cp:lastModifiedBy>U</cp:lastModifiedBy>
  <cp:lastPrinted>1995-08-30T07:48:42Z</cp:lastPrinted>
  <dcterms:modified xsi:type="dcterms:W3CDTF">1997-07-24T05:04:00Z</dcterms:modified>
  <cp:revision>3</cp:revision>
  <dc:subject/>
  <dc:title>No Slide Title</dc:title>
</cp:coreProperties>
</file>