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, on Land 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 Descen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8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, on land and sea desc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s the night its peace profou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our vesper hymn be blend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holy calm arou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bilate! Jubilate! Jubilate! Am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our vesper hymn be blend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holy calm ar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n as dies the sunset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s of heaven shine out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ing still the ancient s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Creator's changeless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bilate! Jubilate! Jubilate! Am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ing still the ancient st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Creator's changeles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, our wants and burdens lea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's care who cares for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ase we fearing, cease we griev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uched by God our burdens f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bilate! Jubilate! Jubilate! Am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ase we fearing, cease we griev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uched by God our burdens f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darkness deepens o'er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! eternal stars ar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and faith and love rise glorio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in the Spirit's ski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bilate! Jubilate! Jubilate! Am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and faith and love rise glorio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ining in the Spirit's ski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19:51:04Z</dcterms:created>
  <dc:creator>Gary Wintergerst</dc:creator>
  <dc:description/>
  <dc:language>en-US</dc:language>
  <cp:lastModifiedBy>U</cp:lastModifiedBy>
  <cp:lastPrinted>1995-12-28T04:38:12Z</cp:lastPrinted>
  <dcterms:modified xsi:type="dcterms:W3CDTF">1997-07-24T17:34:34Z</dcterms:modified>
  <cp:revision>4</cp:revision>
  <dc:subject/>
  <dc:title>No Slide Title</dc:title>
</cp:coreProperties>
</file>