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All Ye Faithfu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3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, for us sinner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or and in the mang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ould embrace thee with love and aw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would not love thee, loving us so dearly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let us ad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let us ad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let us ad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a, Lord, we greet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this happy mor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to thee be all glory give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 of the Father, now in flesh appearing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let us ad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let us ad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let us ad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este, fidel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eti triumphant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nite, venite in Bethlehe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tum videte Regem angeloru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nite adorem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nite adorem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nite adoremus, Dominu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all ye faithf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ful and triumpha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 ye, O come ye, to Bethlehe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behold him, born the King of angel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let us ad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let us ad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let us ad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e God of true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from Light Etern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, he shuns not the Virgin's womb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n of the Father, begotten, not creat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let us ad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let us ad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let us ad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, choir of angel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in exultati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ing, all ye citizens of heaven abov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God, all glory in the highe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let us ad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let us ad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let us ad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how the shepher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mmoned to his crad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ving their flocks, draw nigh to gaz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too will thither bend our joyful footstep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let us ad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let us ad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, let us adore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9T22:26:36Z</dcterms:created>
  <dc:creator>Gary Wintergerst</dc:creator>
  <dc:description/>
  <dc:language>en-US</dc:language>
  <cp:lastModifiedBy>U</cp:lastModifiedBy>
  <cp:lastPrinted>1995-08-30T07:48:42Z</cp:lastPrinted>
  <dcterms:modified xsi:type="dcterms:W3CDTF">1997-07-24T04:52:48Z</dcterms:modified>
  <cp:revision>2</cp:revision>
  <dc:subject/>
  <dc:title>No Slide Title</dc:title>
</cp:coreProperties>
</file>