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Charit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ove Prevai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4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1 World Library Publ. In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charity and love preva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God is ever fou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ught here together by Christ's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love are we thus bou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grateful joy and holy f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e charity we lear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with heart and mind and streng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love Christ in retur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give we now each other's faul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e our faults confe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t us love each other we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Christian holin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strife among us be unkn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contention cea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Christ the glory that we seek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ours his holy pe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recall that in our mids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wells God's begotten S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members of his body join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in him made 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can exclude no race or cre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honored be God's na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common life embraces a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Maker is the s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7T16:06:28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14T00:47:41Z</dcterms:modified>
  <cp:revision>4</cp:revision>
  <dc:subject/>
  <dc:title>No Slide Title</dc:title>
</cp:coreProperties>
</file>