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7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dom of God is like a grain of mustard se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t is sown in the earth, it is the smallest se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the kingdom of God and a myst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when it is sown, it grows into the largest plan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er than all of the herbs, and grows into a tr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the kingdom of God and a myst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grows so birds can rest inside its crown of lea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ep in its shadows, away from any evil pre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the kingdom of God and a myst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o we can liken it to seeds which make a tr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rger than all of the trees from just the smallest see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like the kingdom of God and a mystery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54:30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20:06Z</dcterms:modified>
  <cp:revision>3</cp:revision>
  <dc:subject/>
  <dc:title>No Slide Title</dc:title>
</cp:coreProperties>
</file>