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s, Rejoi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ye heed to what we say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is born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x and ass before him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is in the manger n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born to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born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ye hear of endless bliss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was born for thi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opened heaven's d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 are blest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for th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for thi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 friends, rej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ye need not fear the grave: News, new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 was born to sav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s you one and calls you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ain his everlasting h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to sa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7:03:38Z</dcterms:created>
  <dc:creator>Gary Wintergerst</dc:creator>
  <dc:description/>
  <dc:language>en-US</dc:language>
  <cp:lastModifiedBy>U</cp:lastModifiedBy>
  <cp:lastPrinted>1995-08-30T07:48:42Z</cp:lastPrinted>
  <dcterms:modified xsi:type="dcterms:W3CDTF">1997-07-24T04:51:02Z</dcterms:modified>
  <cp:revision>2</cp:revision>
  <dc:subject/>
  <dc:title>No Slide Title</dc:title>
</cp:coreProperties>
</file>