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spel Fea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to the gospel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soul be Jesus' gu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need not one be left beh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od hath bid all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begin to make excu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! do not you his grace refu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worldly cares and pleasures le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what Jesus hath to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partake the gospel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aved from sin, in Jesus r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aste the goodness of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t his flesh and drink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m set forth before your ey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the bleeding sacrifi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offered love make haste to emb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eely now be saved by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ho believe his record tru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sup with him and he with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feast, be saved from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Jesus waits to take you 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57:28Z</dcterms:created>
  <dc:creator>Gary Wintergerst</dc:creator>
  <dc:description/>
  <dc:language>en-US</dc:language>
  <cp:lastModifiedBy>U</cp:lastModifiedBy>
  <cp:lastPrinted>1995-12-25T20:22:40Z</cp:lastPrinted>
  <dcterms:modified xsi:type="dcterms:W3CDTF">1997-07-24T17:22:10Z</dcterms:modified>
  <cp:revision>4</cp:revision>
  <dc:subject/>
  <dc:title>No Slide Title</dc:title>
</cp:coreProperties>
</file>