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or of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s of N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9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1 The Church Pension Fu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or of the stars of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people's everlasting 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hrist, thou Savior of us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pray thee, hear us when we c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great name of Jesus 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knees must bend, all hearts must b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ings celestial thee shall 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ings terrestrial, Lord alone.    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20:05:30Z</dcterms:created>
  <dc:creator>Gary Wintergerst</dc:creator>
  <dc:description/>
  <dc:language>en-US</dc:language>
  <cp:lastModifiedBy>Gary Wintergerst</cp:lastModifiedBy>
  <cp:lastPrinted>1995-12-28T04:43:36Z</cp:lastPrinted>
  <dcterms:modified xsi:type="dcterms:W3CDTF">1999-11-14T02:56:46Z</dcterms:modified>
  <cp:revision>5</cp:revision>
  <dc:subject/>
  <dc:title>No Slide Title</dc:title>
</cp:coreProperties>
</file>