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ord's My Shephe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ll Not Wan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136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ord's my shepherd, I'll not want. He makes me down to li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pastures green; he leadeth me the quiet waters b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soul he doth restore again, and me to walk doth mak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in the paths of righteousness, e'en for his own name's sak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a, though I walk in death's dark vale, yet will I fear no ill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ou art with me, and thy rod and staff me comfort sti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table thou hast furnished in presence of my foe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head thou dost with oil anoint, and my cup overflow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odness and mercy all my life shall surely follow 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n God's house forevermore my dwelling place shall b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30T16:52:38Z</dcterms:created>
  <dc:creator>Gary Wintergerst</dc:creator>
  <dc:description/>
  <dc:language>en-US</dc:language>
  <cp:lastModifiedBy>U</cp:lastModifiedBy>
  <cp:lastPrinted>1995-08-11T16:01:02Z</cp:lastPrinted>
  <dcterms:modified xsi:type="dcterms:W3CDTF">1997-07-24T00:33:32Z</dcterms:modified>
  <cp:revision>3</cp:revision>
  <dc:subject/>
  <dc:title>No Slide Title</dc:title>
</cp:coreProperties>
</file>