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58120" y="5429160"/>
            <a:ext cx="709560" cy="101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Me th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ories of Jesu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27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82432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me the stories of Jesus I love to h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gs I would ask him to tell me if he were her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cenes by the wayside, tales of the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ories of Jesus, tell them to 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rst let me hear how the children stood round his kn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I shall fancy his blessing resting on m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s full of kindness, deeds full of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n the love-light of Jesus' f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to the city I'd follow the children's b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aving a branch of the palm tree high in my han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of his heralds, yes, I would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udest hosannas, "Jesus is King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27T21:08:36Z</dcterms:created>
  <dc:creator>Gary Wintergerst</dc:creator>
  <dc:description/>
  <dc:language>en-US</dc:language>
  <cp:lastModifiedBy>U</cp:lastModifiedBy>
  <cp:lastPrinted>1995-07-27T21:04:18Z</cp:lastPrinted>
  <dcterms:modified xsi:type="dcterms:W3CDTF">1997-07-24T05:00:51Z</dcterms:modified>
  <cp:revision>4</cp:revision>
  <dc:subject/>
  <dc:title>No Slide Title</dc:title>
</cp:coreProperties>
</file>