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35320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’ve a Story t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to the Natio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UMH 569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’ve a Savior to show to the natio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he path of sorrow hath tr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ll of the world's great peopl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823240" y="6453360"/>
            <a:ext cx="311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ght come to the truth of Go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ght come to the truth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823240" y="6453360"/>
            <a:ext cx="311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darkness shall turn to dawn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dawning to noon day br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rist’s great kingdom shall come on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dom of love and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’ve a story to tell to the natio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hall turn their hearts to the r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tory of truth and merc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tory of peace and ligh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tory of peace and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823240" y="6453360"/>
            <a:ext cx="311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darkness shall turn to dawn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dawning to noon day br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rist’s great kingdom shall come on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dom of love and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’ve a song to be sung to the natio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shall lift their hearts to the L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ong that shall conquer evi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tter the spear and sw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5311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274680" bIns="274680" anchor="t">
            <a:normAutofit/>
          </a:bodyPr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tter the spear and swor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darkness shall turn to dawn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dawning to noon day br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rist’s great kingdom shall come on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dom of love and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’ve a message to give to the natio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e Lord who reigneth above ha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us his Son to save u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ow us that God is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823240" y="6453360"/>
            <a:ext cx="311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ow us that God is Lov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23240" y="6453360"/>
            <a:ext cx="311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darkness shall turn to dawn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dawning to noon day bright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hrist’s great kingdom shall come on eart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dom of love and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3T13:40:10Z</dcterms:created>
  <dc:creator>Gary Wintergerst</dc:creator>
  <dc:description/>
  <dc:language>en-US</dc:language>
  <cp:lastModifiedBy>Gary Wintergerst</cp:lastModifiedBy>
  <dcterms:modified xsi:type="dcterms:W3CDTF">2000-06-15T15:18:33Z</dcterms:modified>
  <cp:revision>4</cp:revision>
  <dc:subject/>
  <dc:title>No Slide Title</dc:title>
</cp:coreProperties>
</file>