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ndrous S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Vision Fai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ondrous sight! O vision f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lory that the church shall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Christ upon the mountain sh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brighter than the sun he glow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 the tale decla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ith the three disciples t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Moses and Elijah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holds converse high and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w and prophets there have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wo chosen witnesses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's voice from out the clou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s his only Son alou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shining face and bright ar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deigns to manifest that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glory shall be theirs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joy in God with perfect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aithful hearts are raised on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s great vision's myste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ich in joyful strains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oice of prayer, the hymn of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50:1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7:56Z</dcterms:modified>
  <cp:revision>2</cp:revision>
  <dc:subject/>
  <dc:title>No Slide Title</dc:title>
</cp:coreProperties>
</file>