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ymn Of Prom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ulb there is a fl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eed, an apple tr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ocoons, a hidden promis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terflies will soon be fr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old and snow of win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pring that waits to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revealed until its s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God alone can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song in every sil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ing word and melod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a dawn in every dark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ing hope to you an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past will come the fut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it holds, a myste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revealed until its s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God alone can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end is our begin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time, infini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oubt there is belie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life, etern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our death, a resurrec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last, a vic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revealed until its s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hing God alone can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49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3:01:00Z</dcterms:modified>
  <cp:revision>4</cp:revision>
  <dc:subject/>
  <dc:title>No Slide Title</dc:title>
</cp:coreProperties>
</file>