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and Very So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0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8 Communiqu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Music, Inc &amp; Crouch Music Corp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4000"/>
          </a:bodyPr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and very so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ing to see the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and very so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ing to see the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and very so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ing to see the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5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going to see the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and very so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ing to see the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going to see the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dying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ing to see the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and very so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ing to see the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and very so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ing to see the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going to see the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e crying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ing to see the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and very so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ing to see the K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and very so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going to see the K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going to see the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1T18:15:46Z</dcterms:created>
  <dc:creator>Gary Wintergerst</dc:creator>
  <dc:description/>
  <dc:language>en-US</dc:language>
  <cp:lastModifiedBy>Gary Wintergerst</cp:lastModifiedBy>
  <cp:lastPrinted>1996-01-02T14:00:02Z</cp:lastPrinted>
  <dcterms:modified xsi:type="dcterms:W3CDTF">1999-11-14T03:00:03Z</dcterms:modified>
  <cp:revision>5</cp:revision>
  <dc:subject/>
  <dc:title>No Slide Title</dc:title>
</cp:coreProperties>
</file>