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, O God, Ou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s and Daught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h ,O God, our sons and daughter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your cleansing waters f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mber them among your peopl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 as Christ blessed long a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ave them garments bright and sparkl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pass them with love and light.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, anoint them; send your Spir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dove and heart’s de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ho bring them long for nurtu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milk may we be f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join your feast, partak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p of blessing, living br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renew us, guide our footstep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from sin and all its snare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ith Christ in living, dy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pirit, children, heir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ow deep your holy wisdo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imagined, all your way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your name be glory, honor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ur lives we worship,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your people stand before you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er washed and Spirit b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grace, our lives we off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reate us; God, transform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4T20:32:32Z</dcterms:created>
  <dc:creator>Gary Wintergerst</dc:creator>
  <dc:description/>
  <dc:language>en-US</dc:language>
  <cp:lastModifiedBy>Gary Wintergerst</cp:lastModifiedBy>
  <cp:lastPrinted>1995-12-25T20:14:02Z</cp:lastPrinted>
  <dcterms:modified xsi:type="dcterms:W3CDTF">1999-11-14T02:14:11Z</dcterms:modified>
  <cp:revision>7</cp:revision>
  <dc:subject/>
  <dc:title>No Slide Title</dc:title>
</cp:coreProperties>
</file>