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risto Viv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(Christ Is Risen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313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79f"/>
                </a:solidFill>
                <a:latin typeface="Arial"/>
              </a:rPr>
              <a:t>Sp: 2; Eng: 9; Sp/Eng: 16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62 Metho Press, Ltd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Trans. 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1974 Hope Publ. Co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o not look among the dead fo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e who lives forevermor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ell the world that Christ is rise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ke it known he goes befor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f the Lord had never rise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'd have nothing to believ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t his promise can be trusted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"You will live, because I live."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we share the death of Adam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 in Christ we live agai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eath has lost its sting and terro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the Lord has come to reig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eath has lost its old dominio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the world rejoice and shout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, the firstborn of the liv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ives us life and leads us out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us thank our God, who cause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pe to spring up from the groun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is risen, Christ is givi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fe eternal, life profoun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¡Cristo vive, fuera el llanto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s lamentos y el pesar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is risen, Christ is liv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ry your tears, be unafraid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35080" y="3429000"/>
            <a:ext cx="882648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i la muerte ni el sepulcro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 han podido sujeta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eath and darkness could not hold him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r the tomb in which he l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35080" y="3429000"/>
            <a:ext cx="867384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 busquéls entre los muerto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 que siempre ha de vivir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o not look among the dead fo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e who lives forevermor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35080" y="3429000"/>
            <a:ext cx="867384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¡Cristo vive! estas nueva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or doquier dejad oi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ell the world that Christ is rise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ke it known he goes befor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11040" y="3429000"/>
            <a:ext cx="859788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¡Cristo vive, fuera el llanto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s lamentos y el pesar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i la muerte ni el sepulcro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 han podido sujetar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 busquéls entre los muerto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Que si Cristo no viviera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vana fuera nuestra f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f the Lord had never rise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'd have nothing to believ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35080" y="3429000"/>
            <a:ext cx="875016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s se cumple su promesa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'Porque vivo, viviréi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t his promise can be trusted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"You will live, because I live."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58760" y="3429000"/>
            <a:ext cx="882648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'Si en Adán entro la muert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or Jesús la vida entró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we share the death of Adam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 in Christ we live again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11040" y="3429000"/>
            <a:ext cx="859788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 temáis, el triunfo es vuestro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¡El Señor resucitó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eath has lost its sting and terro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the Lord has come to reig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58760" y="3429000"/>
            <a:ext cx="875016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 es verdad que de la muert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l pecado es aguijó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eath has lost its old dominio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the world rejoice and shout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11040" y="3429000"/>
            <a:ext cx="852192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 temáis pues Jesucristo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s da vida y salvació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, the firstborn of the liv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ives us life and leads us ou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5080" y="3429000"/>
            <a:ext cx="867384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acias demos al Dios Padr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que nos da segurida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us thank our God, who cause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pe to spring up from the groun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35080" y="3429000"/>
            <a:ext cx="867384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que quien cree en Jesucristo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vive por la eternida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is risen, Christ is givi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fe eternal, life profoun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11040" y="3429000"/>
            <a:ext cx="86742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 que siempre ha de vivi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¡Cristo vive! estas nueva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or doquier dejad oi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Que si Cristo no viviera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vana fuera nuestra f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s se cumple su promesa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'Porque vivo, viviréi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'Si en Adán entro la muert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or Jesús la vida entró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 temáis, el triunfo es vuestro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¡El Señor resucitó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 es verdad que de la muert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l pecado es aguijó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 temáis pues Jesucristo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s da vida y salvació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acias demos al Dios Padr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que nos da segurida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que quien cree en Jesucristo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vive por la eternida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is risen, Christ is liv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ry your tears, be unafraid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eath and darkness could not hold him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r the tomb in which he lay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9-23T07:57:06Z</dcterms:created>
  <dc:creator>Gary Wintergerst</dc:creator>
  <dc:description/>
  <dc:language>en-US</dc:language>
  <cp:lastModifiedBy>Gary Wintergerst</cp:lastModifiedBy>
  <cp:lastPrinted>1995-09-23T08:11:46Z</cp:lastPrinted>
  <dcterms:modified xsi:type="dcterms:W3CDTF">1999-11-12T22:39:06Z</dcterms:modified>
  <cp:revision>11</cp:revision>
  <dc:subject/>
  <dc:title>No Slide Title</dc:title>
</cp:coreProperties>
</file>