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ghty Fortr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10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mighty fortress is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bulwark never fail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helper he amid the flo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mortal ills prevail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ill our ancient fo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th seek to work us wo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craft and power are grea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rmed with cruel ha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earth is not his equal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d we in our own strength conf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triving would be lo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re not the right man on our s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man of God's own choo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ost ask who that may be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 Jesus, it is h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Sabaoth, his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om age to age the s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 must win the battl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ough this world, with devils fill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hould threaten to undo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will not fear, for God hath wil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truth to triumph through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ince of Darkness gr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tremble not for h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rage we can endu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lo, his doom is su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little word shall fell him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word above all earthly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thanks to them, abideth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pirit and the gifts are ou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him who with us sidet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goods and kindred g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mortal life also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dy they may k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truth abideth still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s kingdom is forev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5:51:12Z</dcterms:created>
  <dc:creator>Gary Wintergerst</dc:creator>
  <dc:description/>
  <dc:language>en-US</dc:language>
  <cp:lastModifiedBy>U</cp:lastModifiedBy>
  <cp:lastPrinted>1995-07-01T15:49:38Z</cp:lastPrinted>
  <dcterms:modified xsi:type="dcterms:W3CDTF">1997-07-22T20:25:08Z</dcterms:modified>
  <cp:revision>4</cp:revision>
  <dc:subject/>
  <dc:title>No Slide Title</dc:title>
</cp:coreProperties>
</file>