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a Song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aints of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1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ing a song of the saints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tient and brave and tru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oiled and fought and lived and di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Lord they loved and kne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ne was a doctor, and one was a que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ne was a shepherdess on the gre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were all of them saints of God, and I me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helping, to be one to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loved their Lord so dear, so d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is love made them str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y followed the right for Jesus' sak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hole of their good lives lo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ne was a soldier, and one was a pri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ne was slain by a fierce wild bea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re's not any reason, no, not the le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y I shouldn't be one to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lived not only in ages pa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are hundreds of thousands sti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ld is bright with the joyous sain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love to do Jesus' wi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can meet them in school, on the street, in the stor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urch, by the sea, in the house next do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are saints of God, whether rich or po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mean to be one to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28:36Z</dcterms:created>
  <dc:creator>Gary Wintergerst</dc:creator>
  <dc:description/>
  <dc:language>en-US</dc:language>
  <cp:lastModifiedBy>U</cp:lastModifiedBy>
  <cp:lastPrinted>1996-01-02T14:11:44Z</cp:lastPrinted>
  <dcterms:modified xsi:type="dcterms:W3CDTF">1997-07-24T17:50:32Z</dcterms:modified>
  <cp:revision>5</cp:revision>
  <dc:subject/>
  <dc:title>No Slide Title</dc:title>
</cp:coreProperties>
</file>