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ame D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Christm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4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ame down at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ll lovely, Love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was born at Christma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 and angels gave the s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we the Godh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incarnate, Love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we our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herewith for sacred sig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shall be our tok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be yours and love be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o God and neighb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for plea and gift and s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by highest heaven ad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everlasting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te in time behold him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spring of a virgin's womb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iled in flesh the Godhead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'incarnate De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d with us in flesh to d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Emmanu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the herald 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lory to the newborn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heaven-born Prince of Pe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Sun of Righteousnes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ife to all he br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sen with healing in his w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ld he lays his glory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hat we no more may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raise us from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give us second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2:29:00Z</dcterms:created>
  <dc:creator>Gary Wintergerst</dc:creator>
  <dc:description/>
  <dc:language>en-US</dc:language>
  <cp:lastModifiedBy>U</cp:lastModifiedBy>
  <cp:lastPrinted>1995-08-30T07:48:42Z</cp:lastPrinted>
  <dcterms:modified xsi:type="dcterms:W3CDTF">1997-07-24T04:54:08Z</dcterms:modified>
  <cp:revision>3</cp:revision>
  <dc:subject/>
  <dc:title>No Slide Title</dc:title>
</cp:coreProperties>
</file>