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I Survey th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ndrous Cros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99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I survey the wondrous cros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which the Prince of Glory di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richest gain I count but lo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pour contempt on all my prid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bid it, Lord, that I should boa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ve in the death of Christ, my Go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e vain things that charm me mo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acrifice them to his blo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, from his head, his hands, his fee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rrow and love flow mingled dow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id e'er such love and sorrow mee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r thorns compose so rich a crown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re the whole realm of nature m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were an offering far too small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so amazing, so div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mands my soul, my life, my all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7T17:38:12Z</dcterms:created>
  <dc:creator>Gary Wintergerst</dc:creator>
  <dc:description/>
  <dc:language>en-US</dc:language>
  <cp:lastModifiedBy>U</cp:lastModifiedBy>
  <cp:lastPrinted>1995-08-30T07:48:42Z</cp:lastPrinted>
  <dcterms:modified xsi:type="dcterms:W3CDTF">1997-07-24T05:04:06Z</dcterms:modified>
  <cp:revision>2</cp:revision>
  <dc:subject/>
  <dc:title>No Slide Title</dc:title>
</cp:coreProperties>
</file>