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82160" y="5429160"/>
            <a:ext cx="7855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UMH 67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969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Kate Stearns Page, 193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9696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900640" y="644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God of every n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Lord of Hosts etern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ays of wonder, days of beauty, days of rapture filled with ligh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ll thy goodness, tell thy mercies, Tell Thy glorious might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praise Thee 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9000"/>
          </a:bodyPr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God of every nation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0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Lord of Hosts eternal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or thy blessings, for thy bounty, joyful songs to thee we sing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ongs of glory, songs of triumph to our God and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, Thy people, prais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e, praise Thee evermore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9T22:14:56Z</dcterms:created>
  <dc:creator>Gary Wintergerst</dc:creator>
  <dc:description/>
  <dc:language>en-US</dc:language>
  <cp:lastModifiedBy>Gary Wintergerst</cp:lastModifiedBy>
  <cp:lastPrinted>1995-08-10T21:16:46Z</cp:lastPrinted>
  <dcterms:modified xsi:type="dcterms:W3CDTF">2001-06-22T23:21:11Z</dcterms:modified>
  <cp:revision>7</cp:revision>
  <dc:subject/>
  <dc:title>No Slide Title</dc:title>
</cp:coreProperties>
</file>